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2907-6B18-4004-BD0B-F74A85A79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0EC4-4D4C-4D3C-80F8-CA247D1B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ECAC-5719-4836-AC96-276B34A5A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50BB-61B8-41E3-9211-3B7C8B6B6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B956E-96A1-4A6D-BB87-6AECFE04C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9F22-4FED-46BF-A4C9-69669A50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9279-680C-4DAE-8817-60DDA833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7699-E956-4195-BE51-7738E263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F9757-2862-44FD-9D4A-01C2B01C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9295E-F5DB-4718-BFD1-C2656103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F98AB-6C87-4E82-A563-EC806DF9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5805-E252-4A0D-8113-88CF7A2D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93B0-C9BA-4994-88D3-10F8E07E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5B2F-5239-4111-A3EB-97717B1E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9762B-A7DF-4865-BBDD-218A388A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8F7D-46F5-4E44-82C6-D452B8FA2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431CB-C7C2-4E6A-BACF-EAABAE262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9C72D-2CA1-41FB-BF5A-96CE6B434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78C7B-18B2-418E-8AB8-341EFD6B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59DC0-B366-4150-9DBA-828D4D6A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3691E-DE17-4F8A-AE77-3C590C43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EC1DA-7E98-444E-80C6-F37E8DFF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EB93-9F80-4352-A318-61BD7458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E27A7-8951-4D7D-B36E-763970DF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FB791-15B1-41B4-AB56-628F8340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8164B-4C18-4211-B12F-3562253A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A4FEE-FC79-4703-995F-3B845174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83033-CD92-46EE-8646-D11820B4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238B5-1463-49F9-9D93-709160CE1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75513-747B-4A4F-A74E-9AD91F290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F134C-6237-4EC1-801F-261B8232A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26575-3BC0-420C-82CC-D1D1F883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77276-F6D4-465B-8802-5885B9D8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7588-7497-49BF-8284-8B1A1C08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035C2-56D2-433E-B0AE-E92D20C3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D637D-555D-426A-801B-2FDC6ABC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0301C-6BDE-4BB7-83F4-6A2E7685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EF31F-556D-43FA-B8F3-6699F021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1580A-FE33-4FBE-A306-ED739756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5C7C9-9ABE-4D88-9924-6427CFF5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468E8-5CCA-41BC-9D2A-8735151F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E26A5-7B6E-4D81-BBC5-BB088F560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DF1BF-5889-4E10-8F79-C4A678B4B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25060-0007-4CE6-A076-E89EACD0D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B07E-5AE1-4738-9140-6B952C8B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A6AC9-4EAD-429E-A5B5-7396B6E0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C789D-5936-43F0-858D-8889FCAC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5D618-69BF-46E7-A11F-437AD6B6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F941F-2FFF-4426-A43B-F806ACD4B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E9EE7-C8D0-432A-A2B3-CA8715DE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CE01D-378B-4676-8823-303E00E2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27FE5-27E7-4334-89B1-997F92DE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F52B2-FD07-4F02-8AD9-EE60512F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219AA-D97C-4663-83B7-D26EFB40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BE3A8-8457-4781-90CD-D18D4C97E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E903-0575-4CF0-9EAD-0F0C132D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A2BE1-4626-4B92-8685-79F74F726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D8FED-0D59-4231-80DC-BBA45B82B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9880B-6920-4D3F-9579-041C1662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17B4F-DEA4-4E1B-ACDC-A9B45EE3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B4BA5-3D57-40DF-BB4C-550865D0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ED312-99A2-4535-AC02-2CE2ADF2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6DD39-6A54-45B6-93D4-8D8C7263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163EC-2E09-49D0-A173-4AC8632F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D8B98-4062-4312-8F95-24E1E910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C3CDA-B183-4537-924C-22C61BDF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697F-61A8-443C-A169-C25E558F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CB904-6866-4F38-8559-4C690766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46CF3-A7C0-4AB4-A2B1-679100728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3D272-7127-4B6B-87BB-8CE13DE65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7057D-4663-4041-8A50-C6CB7795A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5E995-26BE-4C81-AB6A-DEAC4749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038B2-461C-4AFB-8187-4F14889A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D668D-0301-4EC1-83AB-B782FAF0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5FF98-AE00-4014-ACC0-4BFBFC41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9B0CC-E2CB-4321-9F9E-7684C3B1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A4742-1EDB-4447-8418-926AC001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BEE6-6848-45C2-8376-D46302AE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B8E3E-E219-4A8D-8481-1F30A260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C410B-2E5C-4F51-A3C5-128C2394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D4FCE-62DF-4B61-986F-6907F9AB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E1953-6D78-4027-A781-A97AD7321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BB485-C303-410E-B1FD-4E8BBCD6B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D11D3-4971-472A-B087-A6C82D9EB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E8236-5528-4ACE-9826-E2E1481C8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09FEC-7667-4ABD-BE09-201C65E3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FA7B6-83F4-4B19-A386-A613E04D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2A123-45DA-4578-8386-081C1F1C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9564-2422-46D7-ADB9-1EE33F5C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328AD-F389-446B-8B7D-3AD6EAA2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2141C-6930-4620-904D-176B741E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425AC-C5FF-4757-9ED2-520A6075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37BCA-7B46-4FCC-B28B-88897E39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F2734-4FD6-48C5-986B-91710F97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48AE7-AE76-4881-B60D-075CA02AF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706FA-F70C-4DCC-9A03-0B52F26ED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iunghi drept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Conector drep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0ECF-7295-4F59-8495-F7B19F19A0D1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iunghi drept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8a8a8a"/>
              </a:gs>
              <a:gs pos="50000">
                <a:srgbClr val="e1e1e1"/>
              </a:gs>
              <a:gs pos="100000">
                <a:srgbClr val="8a8a8a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are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ormă liberă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eaeae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ormă liberă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ormă liberă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ormă liberă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Conector drept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E758-313B-4861-BAF6-DD77D0B33FF5}" type="slidenum"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În zigzag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În zigzag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A396-9DDF-44F9-AE00-CD3B2DB2666A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91F5-6EE0-4E32-9638-39C092DCF0F5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8260-7D97-4248-B397-362EF0C35873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6D58-7B2C-4D3E-B963-EC84AEE01A28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A22A-EE21-483F-B256-DC0F93646D52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rmă liberă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rmă liberă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Triunghi drept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Triunghi drept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Conector drept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În zigzag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În zigzag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000E-BA5C-40A5-8EF5-D2AD27EEB5FA}" type="slidenum"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u 1" descr=""/>
          <p:cNvPicPr/>
          <p:nvPr/>
        </p:nvPicPr>
        <p:blipFill>
          <a:blip r:embed="rId1"/>
          <a:stretch/>
        </p:blipFill>
        <p:spPr>
          <a:xfrm>
            <a:off x="603360" y="542880"/>
            <a:ext cx="7785000" cy="18399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23640" y="2852640"/>
            <a:ext cx="8134200" cy="1959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ipuri de informaţii / date: numerice, şiruri de caractere (texte), imagini, logic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Lucida Sans Unicode"/>
              </a:rPr>
              <a:t>Tipul datei determină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Lucida Sans Unicode"/>
              </a:rPr>
              <a:t>- domeniul de valori pe care le poate lua dat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Lucida Sans Unicode"/>
              </a:rPr>
              <a:t>- prelucrările care se pot face cu acea dată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0" y="259920"/>
            <a:ext cx="9144000" cy="600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Lucida Sans Unicode"/>
              </a:rPr>
              <a:t>TIPURI DE DAT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1.Tipul numeric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este folosit pentru reprezentarea informației numerice(valorile numerice reale). Se pot folosi cifre de la 0-9,virgula, punctul, %, E, 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120.000=12X10</a:t>
            </a:r>
            <a:r>
              <a:rPr b="0" lang="ro-RO" sz="20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=12E4(scriere științifică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Prelucrările care se pot face cu acest tip de dată sunt prelucrările aritmetice și comparații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2. </a:t>
            </a: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Tipul șir de caractere 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–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este folosit pentru reprezentarea informației alfanumerice. Prelucrările care se pot face pe acest tip sunt concatenarea și comparații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3.Tipul logic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– este folosit pentru reprezentarea datelor care nu pot lua decât două valori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true sau fals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. Se pot realiza prelucrări logic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4. Tipul dată calendaristică și tim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5. Tipul imag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1. </a:t>
            </a: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Fișie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2. Foi de calcul -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program de calcul tabelar (de ex. Excel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3. </a:t>
            </a:r>
            <a:r>
              <a:rPr b="1" lang="ro-RO" sz="2800" spc="-1" strike="noStrike">
                <a:solidFill>
                  <a:srgbClr val="000000"/>
                </a:solidFill>
                <a:latin typeface="Lucida Sans Unicode"/>
              </a:rPr>
              <a:t>Tabe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- permit gruparea unor date înrudite și este format din linii și coloan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4. Baze de date-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sunt formate din unul sau mai multe tabele între care se pot stabili legături numite relații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5. Lis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u 2" descr=""/>
          <p:cNvPicPr/>
          <p:nvPr/>
        </p:nvPicPr>
        <p:blipFill>
          <a:blip r:embed="rId1"/>
          <a:stretch/>
        </p:blipFill>
        <p:spPr>
          <a:xfrm>
            <a:off x="390600" y="-6480"/>
            <a:ext cx="824076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Aplicație: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Construiți în registrul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Exemp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, un tabel cu cheltuielile lunare pentru utilități: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apă, gaze și electricitat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. Tabelul va avea 15 coloane: una pentru tipul utilității, 12 pentru fiecare lună, una pentru totalul pe an al cheltuielilor pentru o utilitate și una cu media anuală a cheltuielilor pentru o utilitate. Când executați operații de copiere sau de selectare a celulelor de pe un rând, pentru a putea lucra cu toate coloanele micșorați scara de vizualizare la 50 %. După ce executați operația, reveniți la scara de afișare 100%. Dați foii de calcul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Cheltuieli anua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A. Introduceți în celula A1 titlul tabelului: Cheltuieli anua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B. Introduceți în rândul 2 anteturile pentru coloan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C. Introduceți în coloana A anteturile pentru rândur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D. Formatați cu stilul bold titlul și anteturile de rânduri și coloan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E. Introduceți date în celulele B3:M5. Corectați datele introduse greșit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F. Selectați blocul de celule B3:M3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Apa 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G. Selectați blocul de celule B4:M4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Gaz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H. Selectați blocul de celule B5:M5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Electricitat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-324000" y="0"/>
            <a:ext cx="9468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Proiectarea unei baze de date – Material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1.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Tabelul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 Materiale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conține următoarele câmpuri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Identificatorul materialulu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cod_mat,I). Va fi folosit pentru cheia primară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Numele materialulu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den_mat, C, 30). Acest câmp va fi cheie de indexar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Unitatea de măsur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um,C,4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Prețul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preț,S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Stocul de siguranț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stoc_s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Tabelul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Mișcăr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conține următoarele câmpuri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Identificatorul materialului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 cod_mat,I)- identifică unic articolul și este folosit pentru cheia secundară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Tipul mișcării 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tip_m,C,1). Pot fi 2 tipuri de mișcări: intrarea unui material (I) și ieșirea unui material (E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Cantitatea intrat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(cant_i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Cantitatea ieșit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cant_e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Data mișcării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data_m,D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Intre tabelul Materiale și tabelul Mișcări se stabilește o relație în care tabelul conducător este tabelul Materiale , tabelul condus este tabelul Mișcări, iar câmpul de legătură este codul materialulu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5T10:31:48Z</dcterms:created>
  <dc:creator>user</dc:creator>
  <dc:description/>
  <dc:language>en-US</dc:language>
  <cp:lastModifiedBy>Nik</cp:lastModifiedBy>
  <dcterms:modified xsi:type="dcterms:W3CDTF">2011-11-01T18:20:47Z</dcterms:modified>
  <cp:revision>15</cp:revision>
  <dc:subject/>
  <dc:title>I. Organizarea datelor </dc:title>
</cp:coreProperties>
</file>