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14.png" ContentType="image/png"/>
  <Override PartName="/ppt/media/image13.wmf" ContentType="image/x-wmf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8.png" ContentType="image/png"/>
  <Override PartName="/ppt/media/image10.png" ContentType="image/png"/>
  <Override PartName="/ppt/media/image6.jpeg" ContentType="image/jpeg"/>
  <Override PartName="/ppt/media/image7.png" ContentType="image/png"/>
  <Override PartName="/ppt/media/click.wav" ContentType="audio/x-wav"/>
  <Override PartName="/ppt/media/image12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D6A38-F7F5-4892-B989-C4F1DB2F19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4B864-B0F7-408A-B87C-FA7E99E73D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4B6D5-AE47-4616-A85A-0D591E3AD7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E62CC-A44E-4DBC-AE8C-024232B419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4B150-DAA4-45A8-819C-3C451F3848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4C95E-3400-4885-ACF9-56712DAACF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3CC87-1F41-4C2D-8423-10DA542E32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C26A7-CAA7-486F-A237-515F27EE5E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78356-1609-409A-8496-442CCDE6EB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C8832-A784-46C4-BD79-F85048D21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6E34F-EBD9-4C5E-8D84-668C5AE17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09DCD-A319-42BE-B8DB-E51B874C0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C1418-500A-4AC1-896C-6C0CA4737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8F421-EC74-4146-8491-5B9FE2CFF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D3B21-74BB-49A8-8453-EDCC910DA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27752-9495-479B-A7BF-F80661BD8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74AD1-CB8A-427F-B7E1-371CC3D5A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040AC-EA95-4E4B-B6D7-C697E1CE7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05C0E-46B1-4CD9-BB72-F1124919C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051C4-A8DE-4258-A3A3-D50DF936F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D4698-AF75-44E3-8DF6-6C274BFFD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D4A35-98B9-4024-AD6C-FE4ACE003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769F6-D74D-4F36-A796-16393A98F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B669A-8ACD-4F3F-B186-A5152D258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10EDC-7C5F-447A-A230-DF2030422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B773A-32DE-41B6-808F-2339F524C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CA5014-5225-47D5-BD53-DF934DB38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02BD8E-B1DA-49D1-BE10-4AFBB8366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9397EA-CB1B-4FA9-A5ED-4589C64E6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FD9B13-1F25-4463-9008-BBC029A6C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DEEADD-B4CF-4EBB-96AE-0C95DA05B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1A32B-9D6C-49CA-B3D3-3DB910EE5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C46793-A2A8-4554-B2B2-58EAC8936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82432D-FDBC-4A3F-BE8D-DB274A6B2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833D22-792C-4889-A3D6-EF065E5BA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682BED-3F27-47D5-AFF7-BDE7B91A1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D76DEC-9292-40E2-821E-131CB369B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3E51AA-FCEE-45E2-AB34-9888B2873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F14625-BE2B-4EB2-9420-7639A1FB3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DDD01A-E24A-4A38-ACC2-423C0747D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2B2828-F588-49FB-8FB5-A2AC06CBC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06B3A4-9A9E-4E58-B530-720F80538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1B985-85B3-49B9-9B71-1899823E7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D0533A-A6A6-4A59-B3B9-8FF7810EC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3B7461-03FA-44C1-8683-12ED13298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E19565-55E1-4428-83F8-11F785557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84D2BC-9183-49B1-8B8A-B19472F53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2D4FA5-21AC-4510-826C-4A3A83705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3C5B6A-597B-4A33-8571-E0F5B6ED3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E30D92-2985-4933-BE6B-407FB6BA4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68EF67-8416-4172-A074-472EA9431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1E85A2-0D01-41E1-B108-DF1B92667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98697B-8FE4-499E-8A6F-1DA757B4B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E5C3E-5E03-4349-BC91-3C471E71D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4EB368-D1EF-45FD-BC75-C8919208B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7FFD77-DBB8-452E-9065-53EADC99A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162BFF-CB7F-4070-B684-66CD04FFC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1C70C3-0C02-4E3C-8A3D-8A8AE2CB9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E994BD-EC56-450B-B9C4-21A601199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F4F99D-A317-4756-9C5C-9D6F48AEB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CFD19F-4654-4142-ADF1-A23DB5FAC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1865D6-64C5-4577-83DA-699F8E12A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53E084-B615-491B-ACF9-2D5E82CBF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FA8976-952B-4705-B802-0692A3F36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B48DC-EB8C-4D1E-8479-425C6043D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627A9E-38B7-416D-AB7A-778718B17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8AF0F2-1255-4F7F-BC57-EDD141708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215911-0C88-4398-AAAE-936918E2C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783E59-1D2A-4AA9-BD3D-A47AD04A3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530BD8-9A6E-463C-8F1A-27C370B14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4D23B4-D7A2-4D5C-995B-E9EB60E9B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CBF754-A45F-4640-A8E7-9694D3CB0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93AC7A-8A60-45E2-B0BA-E4CAA9DE4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97EC99-94CB-46D8-9206-7C217273C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B4F345-D2AC-4869-8853-FDFC40559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F3355-0D2D-492A-A591-1F7994A72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BB5FC6-4E49-4A89-8B16-38C5F6F0D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439C29-CEB8-494B-8358-0AA411597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078F0F-F6E5-4FCF-8ABE-8CEE77A3D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C907C4-1B5D-47C3-BD0D-AC7B90B6E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0B0666-5AC8-4635-8D2C-1C7085973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D26F33-DDC3-4E0B-808C-B5AFAC7F1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7B72D2-BD2D-4DB0-BB85-EF53D1E0E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167574-9120-4FEB-BA8E-F8446AE95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9B1A8B-88F6-4156-9746-8C34E19FA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0DC284-F048-4FFA-BD49-B2E3C1D0D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8E3A6-747C-480A-BD83-324DECAA0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58A592-E1F6-49A6-8DAA-310B4007C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FDFBAE-7D27-4A2B-8F08-1CDB79A6F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57DF48-AF75-44EE-BD4D-B6B860F5B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CA0C4F-4A57-4B14-8557-B0076A7AD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C77AEC-89A0-4DAD-ABA3-3ADAF6C14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B6EC87-45E9-4CF4-B048-CABA24B12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E2CE52-F452-4AEC-A437-F7A6CC466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06A1EA-7327-4413-B009-BBEB4B44C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E313D3-A3A2-4562-827E-2F2A9B2B7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FA5A25-4C00-476E-B589-098075579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7D5E6-85F4-4BEF-BFCE-E7B6B8EF4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BACEA8-8EF4-42E9-AF88-7B89E4BE7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77D130-E36F-429F-925C-74E6B74B4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AEBE91-D64B-4730-B534-D5726B54F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E550E8-0E09-4EA5-BF18-CEB8D0065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05279F-D3AC-43A8-8D98-09515B6F0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BFEA0E-F3B2-4B59-B7AB-6DDC18BE5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F6CBF1-EE6F-46EE-B842-074625A90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3D924-2228-4755-8630-490E11C732B1}" type="datetime">
              <a:rPr b="0" lang="ro-RO" sz="10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FE1BB-273E-4875-B942-8C822FCA96D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9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48" name="Group 1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6"/>
            <p:cNvSpPr/>
            <p:nvPr/>
          </p:nvSpPr>
          <p:spPr>
            <a:xfrm>
              <a:off x="1693440" y="4952880"/>
              <a:ext cx="7444440" cy="48672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720"/>
                <a:gd name="textAreaBottom" fmla="*/ 487080 h 48672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50" name="Freeform 7"/>
            <p:cNvSpPr/>
            <p:nvPr/>
          </p:nvSpPr>
          <p:spPr>
            <a:xfrm>
              <a:off x="44280" y="5236560"/>
              <a:ext cx="9093600" cy="786240"/>
            </a:xfrm>
            <a:custGeom>
              <a:avLst/>
              <a:gdLst>
                <a:gd name="textAreaLeft" fmla="*/ 0 w 9093600"/>
                <a:gd name="textAreaRight" fmla="*/ 9093960 w 9093600"/>
                <a:gd name="textAreaTop" fmla="*/ 0 h 786240"/>
                <a:gd name="textAreaBottom" fmla="*/ 786600 h 78624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grpSp>
          <p:nvGrpSpPr>
            <p:cNvPr id="51" name="Freeform 10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0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828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</p:grpSp>
        <p:pic>
          <p:nvPicPr>
            <p:cNvPr id="54" name="Straight Connector 11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06709-7AFD-457A-9619-D9C101DDB640}" type="datetime">
              <a:rPr b="0" lang="ro-RO" sz="1000" spc="-1" strike="noStrike">
                <a:solidFill>
                  <a:srgbClr val="ffffff"/>
                </a:solidFill>
                <a:latin typeface="Times New Roman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953AD-C6F2-479B-B5A5-A698470554A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6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" name="Chevron 7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DF0B4-CAB3-4D79-BA40-FBB5CC30F469}" type="datetime">
              <a:rPr b="0" lang="ro-RO" sz="10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17451-F7DA-469E-9B30-A4F5F0F7614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0E4DD-A006-409E-A4F1-B30847110D7C}" type="datetime">
              <a:rPr b="0" lang="ro-RO" sz="10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3D047-67D6-4623-9BDE-6D5A4EDBFEF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F16C7-9FCF-49A1-8EF0-29D73EB6138C}" type="datetime">
              <a:rPr b="0" lang="ro-RO" sz="10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0E61A-76C1-49C2-9F7A-7B3D3970340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D84AE-874B-4E56-9BE3-2B0CB149F54E}" type="datetime">
              <a:rPr b="0" lang="ro-RO" sz="10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9AAC2-624B-4DFB-8E9D-186A0D7B5A3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9E7FC-ABF5-4053-8DC3-0B609BE31CEC}" type="datetime">
              <a:rPr b="0" lang="ro-RO" sz="10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31244-1568-4B69-A4C1-49B771C09AF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7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Freeform 8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323" name="Right Triangle 9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ight Triangle 9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326" name="Straight Connector 10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1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8" name="Chevron 12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A4C4B-75C0-4E29-83AA-BFCB8B8B161C}" type="datetime">
              <a:rPr b="0" lang="ro-RO" sz="1000" spc="-1" strike="noStrike">
                <a:solidFill>
                  <a:srgbClr val="ffffff"/>
                </a:solidFill>
                <a:latin typeface="Times New Roman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C8C3D-5500-4958-AC9A-BBC6417D102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Rectangle 2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259840" cy="184140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324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algn="r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700" spc="-1" strike="noStrike">
                <a:solidFill>
                  <a:srgbClr val="0000ff"/>
                </a:solidFill>
                <a:latin typeface="Lucida Sans Unicode"/>
              </a:rPr>
              <a:t>Profesor Luncaș Galin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9" name="Date Placeholder 5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59266-62DE-473A-A122-8C46B0BC3F4F}" type="datetime">
              <a:rPr b="0" lang="ro-RO" sz="1000" spc="-1" strike="noStrike">
                <a:solidFill>
                  <a:srgbClr val="ffffff"/>
                </a:solidFill>
                <a:latin typeface="Lucida Sans Unicode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Lucida Sans Unicode"/>
              </a:rPr>
              <a:t>Caracteristicile cîmpurilor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Lucida Sans Unicode"/>
              </a:rPr>
              <a:t>Proprietățile cîmpurilor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1" name="Date Placeholder 2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468C4-9ADC-4737-84EB-FBECFABD367A}" type="datetime">
              <a:rPr b="0" lang="ro-RO" sz="1000" spc="-1" strike="noStrike">
                <a:solidFill>
                  <a:srgbClr val="000000"/>
                </a:solidFill>
                <a:latin typeface="Lucida Sans Unicode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2" name="Title 3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strips dir="rd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" dur="2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17" dur="2000" fill="hold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21" dur="2000" fill="hold"/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Date Placeholder 1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CD840-C690-4ED9-B76B-07E7C7347B9F}" type="datetime">
              <a:rPr b="0" lang="ro-RO" sz="1000" spc="-1" strike="noStrike">
                <a:solidFill>
                  <a:srgbClr val="000000"/>
                </a:solidFill>
                <a:latin typeface="Lucida Sans Unicode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4" name="Picture 2" descr=""/>
          <p:cNvPicPr/>
          <p:nvPr/>
        </p:nvPicPr>
        <p:blipFill>
          <a:blip r:embed="rId1"/>
          <a:stretch/>
        </p:blipFill>
        <p:spPr>
          <a:xfrm>
            <a:off x="374760" y="1550880"/>
            <a:ext cx="8412120" cy="4334040"/>
          </a:xfrm>
          <a:prstGeom prst="rect">
            <a:avLst/>
          </a:prstGeom>
          <a:ln w="0">
            <a:noFill/>
          </a:ln>
        </p:spPr>
      </p:pic>
      <p:sp>
        <p:nvSpPr>
          <p:cNvPr id="385" name="TextBox 3"/>
          <p:cNvSpPr/>
          <p:nvPr/>
        </p:nvSpPr>
        <p:spPr>
          <a:xfrm>
            <a:off x="571680" y="285840"/>
            <a:ext cx="79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Lucida Sans Unicode"/>
              </a:rPr>
              <a:t>Pentru fiecare cîmp al tabelului se specifică: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6" name="Rectangular Callout 4"/>
          <p:cNvSpPr/>
          <p:nvPr/>
        </p:nvSpPr>
        <p:spPr>
          <a:xfrm>
            <a:off x="214200" y="642960"/>
            <a:ext cx="1428840" cy="785880"/>
          </a:xfrm>
          <a:prstGeom prst="wedgeRectCallout">
            <a:avLst>
              <a:gd name="adj1" fmla="val -4833"/>
              <a:gd name="adj2" fmla="val 1136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7" name="TextBox 5"/>
          <p:cNvSpPr/>
          <p:nvPr/>
        </p:nvSpPr>
        <p:spPr>
          <a:xfrm>
            <a:off x="285840" y="642960"/>
            <a:ext cx="14288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Lucida Sans Unicode"/>
              </a:rPr>
              <a:t>Denumirea cîmpului (obligatoriu)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8" name="Rectangular Callout 6"/>
          <p:cNvSpPr/>
          <p:nvPr/>
        </p:nvSpPr>
        <p:spPr>
          <a:xfrm>
            <a:off x="2071800" y="642960"/>
            <a:ext cx="1571400" cy="785880"/>
          </a:xfrm>
          <a:prstGeom prst="wedgeRectCallout">
            <a:avLst>
              <a:gd name="adj1" fmla="val -28592"/>
              <a:gd name="adj2" fmla="val 113699"/>
            </a:avLst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9" name="TextBox 7"/>
          <p:cNvSpPr/>
          <p:nvPr/>
        </p:nvSpPr>
        <p:spPr>
          <a:xfrm>
            <a:off x="2143080" y="785880"/>
            <a:ext cx="1428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Lucida Sans Unicode"/>
              </a:rPr>
              <a:t>Tipul cîmpului (obligatoriu)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0" name="Rectangular Callout 8"/>
          <p:cNvSpPr/>
          <p:nvPr/>
        </p:nvSpPr>
        <p:spPr>
          <a:xfrm>
            <a:off x="4714920" y="714240"/>
            <a:ext cx="2000160" cy="714600"/>
          </a:xfrm>
          <a:prstGeom prst="wedgeRectCallout">
            <a:avLst>
              <a:gd name="adj1" fmla="val -13518"/>
              <a:gd name="adj2" fmla="val 118819"/>
            </a:avLst>
          </a:prstGeom>
          <a:solidFill>
            <a:srgbClr val="ffffff"/>
          </a:solidFill>
          <a:ln w="6480">
            <a:solidFill>
              <a:srgbClr val="7d3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1" name="TextBox 9"/>
          <p:cNvSpPr/>
          <p:nvPr/>
        </p:nvSpPr>
        <p:spPr>
          <a:xfrm>
            <a:off x="4857840" y="857160"/>
            <a:ext cx="1714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Lucida Sans Unicode"/>
              </a:rPr>
              <a:t>Descrierea cîmpului (opțional)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7" dur="2000" fill="hold"/>
                                        <p:tgtEl>
                                          <p:spTgt spid="38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2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00"/>
                            </p:stCondLst>
                            <p:childTnLst>
                              <p:par>
                                <p:cTn id="4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2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2000"/>
                            </p:stCondLst>
                            <p:childTnLst>
                              <p:par>
                                <p:cTn id="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2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Poate conține: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diferite caractere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spații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Cu excepția unor semne speciale: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” 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. ”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” 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! ”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” 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, ”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ș.a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In caz de necesetate denumirea poate folosi semnul ” </a:t>
            </a:r>
            <a:r>
              <a:rPr b="1" lang="ro-RO" sz="2000" spc="-1" strike="noStrike">
                <a:solidFill>
                  <a:srgbClr val="000000"/>
                </a:solidFill>
                <a:latin typeface="Lucida Sans Unicode"/>
              </a:rPr>
              <a:t>_ 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”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Lungimea denuirii cîmpului (împreună cu spațiile ) </a:t>
            </a:r>
            <a:r>
              <a:rPr b="1" lang="ro-RO" sz="2000" spc="-1" strike="noStrike">
                <a:solidFill>
                  <a:srgbClr val="000000"/>
                </a:solidFill>
                <a:latin typeface="Lucida Sans Unicode"/>
              </a:rPr>
              <a:t>nu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 poate fi mai mare ca </a:t>
            </a:r>
            <a:r>
              <a:rPr b="1" lang="ro-RO" sz="2000" spc="-1" strike="noStrike">
                <a:solidFill>
                  <a:srgbClr val="000000"/>
                </a:solidFill>
                <a:latin typeface="Lucida Sans Unicode"/>
              </a:rPr>
              <a:t>64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3" name="Date Placeholder 2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157C0-3DDD-4994-A423-158E024C2710}" type="datetime">
              <a:rPr b="0" lang="ro-RO" sz="1000" spc="-1" strike="noStrike">
                <a:solidFill>
                  <a:srgbClr val="000000"/>
                </a:solidFill>
                <a:latin typeface="Lucida Sans Unicode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4" name="Title 3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cover dir="ld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500"/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000"/>
                            </p:stCondLst>
                            <p:childTnLst>
                              <p:par>
                                <p:cTn id="6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500"/>
                            </p:stCondLst>
                            <p:childTnLst>
                              <p:par>
                                <p:cTn id="7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2000"/>
                            </p:stCondLst>
                            <p:childTnLst>
                              <p:par>
                                <p:cTn id="7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2500"/>
                            </p:stCondLst>
                            <p:childTnLst>
                              <p:par>
                                <p:cTn id="7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3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3000"/>
                            </p:stCondLst>
                            <p:childTnLst>
                              <p:par>
                                <p:cTn id="8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500"/>
                                        <p:tgtEl>
                                          <p:spTgt spid="3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3500"/>
                            </p:stCondLst>
                            <p:childTnLst>
                              <p:par>
                                <p:cTn id="8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" dur="500"/>
                                        <p:tgtEl>
                                          <p:spTgt spid="3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4000"/>
                            </p:stCondLst>
                            <p:childTnLst>
                              <p:par>
                                <p:cTn id="9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3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4500"/>
                            </p:stCondLst>
                            <p:childTnLst>
                              <p:par>
                                <p:cTn id="9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3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5000"/>
                            </p:stCondLst>
                            <p:childTnLst>
                              <p:par>
                                <p:cTn id="9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3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3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700" spc="-1" strike="noStrike">
                <a:solidFill>
                  <a:srgbClr val="000000"/>
                </a:solidFill>
                <a:latin typeface="Lucida Sans Unicode"/>
              </a:rPr>
              <a:t>Text-</a:t>
            </a:r>
            <a:r>
              <a:rPr b="0" lang="ro-RO" sz="1800" spc="-1" strike="noStrike">
                <a:solidFill>
                  <a:srgbClr val="000000"/>
                </a:solidFill>
                <a:latin typeface="Lucida Sans Unicode"/>
              </a:rPr>
              <a:t>pentru texte sau numere care nu for fi folosite în calcule;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700" spc="-1" strike="noStrike">
                <a:solidFill>
                  <a:srgbClr val="000000"/>
                </a:solidFill>
                <a:latin typeface="Lucida Sans Unicode"/>
              </a:rPr>
              <a:t>Number-</a:t>
            </a:r>
            <a:r>
              <a:rPr b="0" lang="ro-RO" sz="1800" spc="-1" strike="noStrike">
                <a:solidFill>
                  <a:srgbClr val="000000"/>
                </a:solidFill>
                <a:latin typeface="Lucida Sans Unicode"/>
              </a:rPr>
              <a:t>pentru numere care vor fi folosite în calcule;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700" spc="-1" strike="noStrike">
                <a:solidFill>
                  <a:srgbClr val="000000"/>
                </a:solidFill>
                <a:latin typeface="Lucida Sans Unicode"/>
              </a:rPr>
              <a:t>Date/Time-</a:t>
            </a:r>
            <a:r>
              <a:rPr b="0" lang="ro-RO" sz="1800" spc="-1" strike="noStrike">
                <a:solidFill>
                  <a:srgbClr val="000000"/>
                </a:solidFill>
                <a:latin typeface="Lucida Sans Unicode"/>
              </a:rPr>
              <a:t>pentru date calendaristice;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700" spc="-1" strike="noStrike">
                <a:solidFill>
                  <a:srgbClr val="000000"/>
                </a:solidFill>
                <a:latin typeface="Lucida Sans Unicode"/>
              </a:rPr>
              <a:t>Currency-</a:t>
            </a:r>
            <a:r>
              <a:rPr b="0" lang="ro-RO" sz="1800" spc="-1" strike="noStrike">
                <a:solidFill>
                  <a:srgbClr val="000000"/>
                </a:solidFill>
                <a:latin typeface="Lucida Sans Unicode"/>
              </a:rPr>
              <a:t>pentru valori bănești;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700" spc="-1" strike="noStrike">
                <a:solidFill>
                  <a:srgbClr val="000000"/>
                </a:solidFill>
                <a:latin typeface="Lucida Sans Unicode"/>
              </a:rPr>
              <a:t>AutoNamber-</a:t>
            </a:r>
            <a:r>
              <a:rPr b="0" lang="ro-RO" sz="1800" spc="-1" strike="noStrike">
                <a:solidFill>
                  <a:srgbClr val="000000"/>
                </a:solidFill>
                <a:latin typeface="Lucida Sans Unicode"/>
              </a:rPr>
              <a:t>pentru numere întregi care își măresc în mod automat valorile ( de ex. numărul de ordine)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700" spc="-1" strike="noStrike">
                <a:solidFill>
                  <a:srgbClr val="000000"/>
                </a:solidFill>
                <a:latin typeface="Lucida Sans Unicode"/>
              </a:rPr>
              <a:t>Yes/No- </a:t>
            </a:r>
            <a:r>
              <a:rPr b="0" lang="ro-RO" sz="1800" spc="-1" strike="noStrike">
                <a:solidFill>
                  <a:srgbClr val="000000"/>
                </a:solidFill>
                <a:latin typeface="Lucida Sans Unicode"/>
              </a:rPr>
              <a:t>pentru valori logice care pot lua numai două valori: </a:t>
            </a:r>
            <a:r>
              <a:rPr b="0" i="1" lang="ro-RO" sz="1800" spc="-1" strike="noStrike">
                <a:solidFill>
                  <a:srgbClr val="000000"/>
                </a:solidFill>
                <a:latin typeface="Lucida Sans Unicode"/>
              </a:rPr>
              <a:t>adevărat</a:t>
            </a:r>
            <a:r>
              <a:rPr b="0" lang="ro-RO" sz="1800" spc="-1" strike="noStrike">
                <a:solidFill>
                  <a:srgbClr val="000000"/>
                </a:solidFill>
                <a:latin typeface="Lucida Sans Unicode"/>
              </a:rPr>
              <a:t> sau </a:t>
            </a:r>
            <a:r>
              <a:rPr b="0" i="1" lang="ro-RO" sz="1800" spc="-1" strike="noStrike">
                <a:solidFill>
                  <a:srgbClr val="000000"/>
                </a:solidFill>
                <a:latin typeface="Lucida Sans Unicode"/>
              </a:rPr>
              <a:t>fals;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700" spc="-1" strike="noStrike">
                <a:solidFill>
                  <a:srgbClr val="000000"/>
                </a:solidFill>
                <a:latin typeface="Lucida Sans Unicode"/>
              </a:rPr>
              <a:t>Memo-</a:t>
            </a:r>
            <a:r>
              <a:rPr b="0" lang="ro-RO" sz="1800" spc="-1" strike="noStrike">
                <a:solidFill>
                  <a:srgbClr val="000000"/>
                </a:solidFill>
                <a:latin typeface="Lucida Sans Unicode"/>
              </a:rPr>
              <a:t>pentru texte lungi;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700" spc="-1" strike="noStrike">
                <a:solidFill>
                  <a:srgbClr val="000000"/>
                </a:solidFill>
                <a:latin typeface="Lucida Sans Unicode"/>
              </a:rPr>
              <a:t>OLE Object- </a:t>
            </a:r>
            <a:r>
              <a:rPr b="0" lang="ro-RO" sz="1800" spc="-1" strike="noStrike">
                <a:solidFill>
                  <a:srgbClr val="000000"/>
                </a:solidFill>
                <a:latin typeface="Lucida Sans Unicode"/>
              </a:rPr>
              <a:t>pentru imagini;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6" name="Date Placeholder 1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B3BD4-E8AA-4890-815A-78EDA0AB5229}" type="datetime">
              <a:rPr b="0" lang="ro-RO" sz="1000" spc="-1" strike="noStrike">
                <a:solidFill>
                  <a:srgbClr val="000000"/>
                </a:solidFill>
                <a:latin typeface="Lucida Sans Unicode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7" name="Tit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p:transition advTm="35000">
    <p:strips dir="rd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0" dur="2000" fill="hold"/>
                                        <p:tgtEl>
                                          <p:spTgt spid="39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1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" dur="500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" dur="500"/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0" dur="500"/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" dur="500"/>
                                        <p:tgtEl>
                                          <p:spTgt spid="3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" dur="500"/>
                                        <p:tgtEl>
                                          <p:spTgt spid="3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2" dur="500"/>
                                        <p:tgtEl>
                                          <p:spTgt spid="3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5" dur="500"/>
                                        <p:tgtEl>
                                          <p:spTgt spid="3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500040" y="928800"/>
            <a:ext cx="822960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Lucida Sans Unicode"/>
              </a:rPr>
              <a:t>Fiecare tip de date are proprietățile prestabilite, care pot fi și modificate.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Lucida Sans Unicode"/>
              </a:rPr>
              <a:t>Cîmpul de tip </a:t>
            </a:r>
            <a:r>
              <a:rPr b="1" lang="ro-RO" sz="1600" spc="-1" strike="noStrike">
                <a:solidFill>
                  <a:srgbClr val="000000"/>
                </a:solidFill>
                <a:latin typeface="Lucida Sans Unicode"/>
              </a:rPr>
              <a:t>Text</a:t>
            </a:r>
            <a:r>
              <a:rPr b="0" lang="ro-RO" sz="1600" spc="-1" strike="noStrike">
                <a:solidFill>
                  <a:srgbClr val="000000"/>
                </a:solidFill>
                <a:latin typeface="Lucida Sans Unicode"/>
              </a:rPr>
              <a:t> poate avea lungimi cuprinse între 1 și 255 de caractere;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Lucida Sans Unicode"/>
              </a:rPr>
              <a:t>Cîmpul de tip </a:t>
            </a:r>
            <a:r>
              <a:rPr b="1" lang="ro-RO" sz="1600" spc="-1" strike="noStrike">
                <a:solidFill>
                  <a:srgbClr val="000000"/>
                </a:solidFill>
                <a:latin typeface="Lucida Sans Unicode"/>
              </a:rPr>
              <a:t>Number</a:t>
            </a:r>
            <a:r>
              <a:rPr b="0" lang="ro-RO" sz="1600" spc="-1" strike="noStrike">
                <a:solidFill>
                  <a:srgbClr val="000000"/>
                </a:solidFill>
                <a:latin typeface="Lucida Sans Unicode"/>
              </a:rPr>
              <a:t> poate avea opțiuni diferite în dependență de opțiunea specificată în proprietatea </a:t>
            </a:r>
            <a:r>
              <a:rPr b="0" i="1" lang="ro-RO" sz="1600" spc="-1" strike="noStrike">
                <a:solidFill>
                  <a:srgbClr val="000000"/>
                </a:solidFill>
                <a:latin typeface="Lucida Sans Unicode"/>
              </a:rPr>
              <a:t>Field Size</a:t>
            </a:r>
            <a:r>
              <a:rPr b="0" lang="ro-RO" sz="1600" spc="-1" strike="noStrike">
                <a:solidFill>
                  <a:srgbClr val="000000"/>
                </a:solidFill>
                <a:latin typeface="Lucida Sans Unicode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Lucida Sans Unicode"/>
              </a:rPr>
              <a:t>Cîmpul de tip </a:t>
            </a:r>
            <a:r>
              <a:rPr b="1" lang="ro-RO" sz="1600" spc="-1" strike="noStrike">
                <a:solidFill>
                  <a:srgbClr val="000000"/>
                </a:solidFill>
                <a:latin typeface="Lucida Sans Unicode"/>
              </a:rPr>
              <a:t>Date/Time</a:t>
            </a:r>
            <a:r>
              <a:rPr b="0" lang="ro-RO" sz="1600" spc="-1" strike="noStrike">
                <a:solidFill>
                  <a:srgbClr val="000000"/>
                </a:solidFill>
                <a:latin typeface="Lucida Sans Unicode"/>
              </a:rPr>
              <a:t> are lungimea variabilei în funcție de formatul datei/oreispecificat pentru proprietatea </a:t>
            </a:r>
            <a:r>
              <a:rPr b="0" i="1" lang="ro-RO" sz="1600" spc="-1" strike="noStrike">
                <a:solidFill>
                  <a:srgbClr val="000000"/>
                </a:solidFill>
                <a:latin typeface="Lucida Sans Unicode"/>
              </a:rPr>
              <a:t>Format</a:t>
            </a:r>
            <a:r>
              <a:rPr b="0" lang="ro-RO" sz="1600" spc="-1" strike="noStrike">
                <a:solidFill>
                  <a:srgbClr val="000000"/>
                </a:solidFill>
                <a:latin typeface="Lucida Sans Unicode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Lucida Sans Unicode"/>
              </a:rPr>
              <a:t>Cîmpul de tip logic poate fi reprezentat în 4 moduri: </a:t>
            </a:r>
            <a:r>
              <a:rPr b="0" i="1" lang="ro-RO" sz="1600" spc="-1" strike="noStrike">
                <a:solidFill>
                  <a:srgbClr val="000000"/>
                </a:solidFill>
                <a:latin typeface="Lucida Sans Unicode"/>
              </a:rPr>
              <a:t>Yes/No, True/Folse, On/Off, -1(adevarat)/0(fals)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9" name="Date Placeholder 2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B4833-913F-4F54-87CD-CDFB25429BE3}" type="datetime">
              <a:rPr b="0" lang="ro-RO" sz="1000" spc="-1" strike="noStrike">
                <a:solidFill>
                  <a:srgbClr val="000000"/>
                </a:solidFill>
                <a:latin typeface="Lucida Sans Unicode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0" name="Title 3" descr=""/>
          <p:cNvPicPr/>
          <p:nvPr/>
        </p:nvPicPr>
        <p:blipFill>
          <a:blip r:embed="rId1"/>
          <a:stretch/>
        </p:blipFill>
        <p:spPr>
          <a:xfrm>
            <a:off x="450720" y="255600"/>
            <a:ext cx="8242560" cy="750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01" name=""/>
          <p:cNvGraphicFramePr/>
          <p:nvPr/>
        </p:nvGraphicFramePr>
        <p:xfrm>
          <a:off x="785880" y="2214720"/>
          <a:ext cx="7786800" cy="2409840"/>
        </p:xfrm>
        <a:graphic>
          <a:graphicData uri="http://schemas.openxmlformats.org/drawingml/2006/table">
            <a:tbl>
              <a:tblPr/>
              <a:tblGrid>
                <a:gridCol w="1500120"/>
                <a:gridCol w="1500120"/>
                <a:gridCol w="3357720"/>
                <a:gridCol w="1428840"/>
              </a:tblGrid>
              <a:tr h="77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5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Opțiunea proprietății </a:t>
                      </a:r>
                      <a:r>
                        <a:rPr b="1" i="1" lang="ro-RO" sz="15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Field Siz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5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Volumul memorie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5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Valorile acceptat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5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Numărul  cifrelor zecimal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5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Byt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5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 octe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5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0 .. 25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5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lipsesc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5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Intege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5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 octeț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5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-32768 .. 3276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5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lipsesc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5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Long Intege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5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4 octeț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5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-2147483648 .. 214748364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5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lipsesc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5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Singl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5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4 octeț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5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-3.4x10</a:t>
                      </a:r>
                      <a:r>
                        <a:rPr b="0" lang="ro-RO" sz="1500" spc="-1" strike="noStrike" baseline="30000">
                          <a:solidFill>
                            <a:srgbClr val="000000"/>
                          </a:solidFill>
                          <a:latin typeface="Lucida Sans Unicode"/>
                        </a:rPr>
                        <a:t>38</a:t>
                      </a:r>
                      <a:r>
                        <a:rPr b="0" lang="ro-RO" sz="15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 .. 3.4x10</a:t>
                      </a:r>
                      <a:r>
                        <a:rPr b="0" lang="ro-RO" sz="1500" spc="-1" strike="noStrike" baseline="30000">
                          <a:solidFill>
                            <a:srgbClr val="000000"/>
                          </a:solidFill>
                          <a:latin typeface="Lucida Sans Unicode"/>
                        </a:rPr>
                        <a:t>3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5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≤</a:t>
                      </a:r>
                      <a:r>
                        <a:rPr b="0" lang="ro-RO" sz="15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  <a:tr h="34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5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Doubl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5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8 octeț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5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-1.797x10</a:t>
                      </a:r>
                      <a:r>
                        <a:rPr b="0" lang="ro-RO" sz="1500" spc="-1" strike="noStrike" baseline="30000">
                          <a:solidFill>
                            <a:srgbClr val="000000"/>
                          </a:solidFill>
                          <a:latin typeface="Lucida Sans Unicode"/>
                        </a:rPr>
                        <a:t>308</a:t>
                      </a:r>
                      <a:r>
                        <a:rPr b="0" lang="ro-RO" sz="15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 .. 1.797x10</a:t>
                      </a:r>
                      <a:r>
                        <a:rPr b="0" lang="ro-RO" sz="1500" spc="-1" strike="noStrike" baseline="30000">
                          <a:solidFill>
                            <a:srgbClr val="000000"/>
                          </a:solidFill>
                          <a:latin typeface="Lucida Sans Unicode"/>
                        </a:rPr>
                        <a:t>30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≤</a:t>
                      </a:r>
                      <a:r>
                        <a:rPr b="0" lang="ro-RO" sz="15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6" dur="500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1000"/>
                            </p:stCondLst>
                            <p:childTnLst>
                              <p:par>
                                <p:cTn id="14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0" dur="500"/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500"/>
                            </p:stCondLst>
                            <p:childTnLst>
                              <p:par>
                                <p:cTn id="1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2000"/>
                            </p:stCondLst>
                            <p:childTnLst>
                              <p:par>
                                <p:cTn id="15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8" dur="500"/>
                                        <p:tgtEl>
                                          <p:spTgt spid="39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2500"/>
                            </p:stCondLst>
                            <p:childTnLst>
                              <p:par>
                                <p:cTn id="16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2" dur="500"/>
                                        <p:tgtEl>
                                          <p:spTgt spid="39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Date Placeholder 1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7DC06-A392-4423-8121-744B2DBCEB33}" type="datetime">
              <a:rPr b="0" lang="ro-RO" sz="1000" spc="-1" strike="noStrike">
                <a:solidFill>
                  <a:srgbClr val="000000"/>
                </a:solidFill>
                <a:latin typeface="Lucida Sans Unicode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3" name="Picture 2" descr=""/>
          <p:cNvPicPr/>
          <p:nvPr/>
        </p:nvPicPr>
        <p:blipFill>
          <a:blip r:embed="rId1"/>
          <a:stretch/>
        </p:blipFill>
        <p:spPr>
          <a:xfrm>
            <a:off x="428760" y="1143000"/>
            <a:ext cx="3500280" cy="3714840"/>
          </a:xfrm>
          <a:prstGeom prst="rect">
            <a:avLst/>
          </a:prstGeom>
          <a:ln w="0">
            <a:noFill/>
          </a:ln>
        </p:spPr>
      </p:pic>
      <p:sp>
        <p:nvSpPr>
          <p:cNvPr id="404" name="TextBox 3"/>
          <p:cNvSpPr/>
          <p:nvPr/>
        </p:nvSpPr>
        <p:spPr>
          <a:xfrm>
            <a:off x="4143240" y="1428840"/>
            <a:ext cx="4643640" cy="4483080"/>
          </a:xfrm>
          <a:prstGeom prst="rect">
            <a:avLst/>
          </a:prstGeom>
          <a:solidFill>
            <a:srgbClr val="ffffff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600" spc="-1" strike="noStrike">
                <a:solidFill>
                  <a:srgbClr val="000000"/>
                </a:solidFill>
                <a:latin typeface="Adobe Garamond Pro Bold"/>
              </a:rPr>
              <a:t>Succes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600" spc="-1" strike="noStrike">
                <a:solidFill>
                  <a:srgbClr val="000000"/>
                </a:solidFill>
                <a:latin typeface="Adobe Garamond Pro Bold"/>
              </a:rPr>
              <a:t> </a:t>
            </a:r>
            <a:r>
              <a:rPr b="0" lang="ro-RO" sz="3600" spc="-1" strike="noStrike">
                <a:solidFill>
                  <a:srgbClr val="000000"/>
                </a:solidFill>
                <a:latin typeface="Adobe Garamond Pro Bold"/>
              </a:rPr>
              <a:t>la specificarea corecta 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600" spc="-1" strike="noStrike">
                <a:solidFill>
                  <a:srgbClr val="000000"/>
                </a:solidFill>
                <a:latin typeface="Adobe Garamond Pro Bold"/>
              </a:rPr>
              <a:t>a caracteristicilor cîmpurilor  si la stabilirea proprietăților atributelor!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 advTm="5000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700" spc="-1" strike="noStrike">
                <a:solidFill>
                  <a:srgbClr val="000000"/>
                </a:solidFill>
                <a:latin typeface="Lucida Sans Unicode"/>
              </a:rPr>
              <a:t>Gr. Vasilache, Iu.Mocanu, I.Covalenco,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700" spc="-1" strike="noStrike">
                <a:solidFill>
                  <a:srgbClr val="000000"/>
                </a:solidFill>
                <a:latin typeface="Lucida Sans Unicode"/>
              </a:rPr>
              <a:t>V.Moraru, L. Carcea, V.Negură, M.Anischevici,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700" spc="-1" strike="noStrike">
                <a:solidFill>
                  <a:srgbClr val="000000"/>
                </a:solidFill>
                <a:latin typeface="Lucida Sans Unicode"/>
              </a:rPr>
              <a:t>Windows Word Excel Access</a:t>
            </a:r>
            <a:r>
              <a:rPr b="0" lang="ro-RO" sz="2700" spc="-1" strike="noStrike">
                <a:solidFill>
                  <a:srgbClr val="000000"/>
                </a:solidFill>
                <a:latin typeface="Lucida Sans Unicode"/>
              </a:rPr>
              <a:t>, Chișinău,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700" spc="-1" strike="noStrike">
                <a:solidFill>
                  <a:srgbClr val="000000"/>
                </a:solidFill>
                <a:latin typeface="Lucida Sans Unicode"/>
              </a:rPr>
              <a:t>Centrul Noilor Tehnologii Informaționale,1999,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700" spc="-1" strike="noStrike">
                <a:solidFill>
                  <a:srgbClr val="000000"/>
                </a:solidFill>
                <a:latin typeface="Lucida Sans Unicode"/>
              </a:rPr>
              <a:t>pp.130-132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6" name="Date Placeholder 1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1FC9C-189A-4400-AE85-5BD3220A38F7}" type="datetime">
              <a:rPr b="0" lang="ro-RO" sz="1000" spc="-1" strike="noStrike">
                <a:solidFill>
                  <a:srgbClr val="000000"/>
                </a:solidFill>
                <a:latin typeface="Lucida Sans Unicode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7" name="Tit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p:transition advTm="5000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31T14:02:54Z</dcterms:created>
  <dc:creator>Galina</dc:creator>
  <dc:description/>
  <dc:language>en-US</dc:language>
  <cp:lastModifiedBy>Galina</cp:lastModifiedBy>
  <dcterms:modified xsi:type="dcterms:W3CDTF">2010-01-31T16:22:39Z</dcterms:modified>
  <cp:revision>14</cp:revision>
  <dc:subject/>
  <dc:title>Aplicaţia Microsoft ACCESS</dc:title>
</cp:coreProperties>
</file>