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3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click.wav" ContentType="audio/x-wav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6823-6992-42B7-8D0A-1C57820EE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C316-47B0-4FDE-BD88-198F740A3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55AD-1D50-4B57-AA9D-95CBE188A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A20E-2E5B-4E5A-9383-D6E20D728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A18C-812F-4E48-B157-CFBD7C7B3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52C8-0022-48D7-95AA-4D36883A2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4C72-8A00-4DD0-811E-BCB2DD4B3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9F99-9330-42F6-97E7-63EC89DED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6C40-A93F-4F3D-AC5F-11CF8EB3C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DD45-7261-4983-93AC-9EE1B2EE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6E9-7563-4A21-8673-8ADF50D4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260-1A49-4B55-A98A-F0A119F6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01D-9B49-40DF-9A2D-FAB4EDF0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E235-CC11-43C7-9B60-DED8E930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A2DC-1272-4721-BC65-AC4D9BE1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2D2F-2F11-4FEB-8C66-1A3C7076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7CC9-2511-4B99-872C-2F3B110D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9562-810A-4E96-8E62-B160D937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A5AD-5AEE-4457-B8C5-4495F18E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46CB-4A51-4CD0-9B31-8FFED9A6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B68-5B7A-457C-A602-1A8D983C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52C9-D9CA-4985-98DE-88148C6F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4B23-EB5D-42C6-BFE9-2C5E4024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2B9B-41A3-4E3D-A250-1CD0AD44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1CBF-721B-4851-A1AF-A3C8E1AD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08B3-9891-444C-B01A-F8FA0DE9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1388-5CEE-4BCF-B978-551E384A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E6DA-E991-4651-BEA0-FDF6B090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5140-A73C-4F03-90E5-7F5A0116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C5B4A-DE85-4294-93BE-8EA7327C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5180-8852-49CE-A46F-AC3CDDED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248-7D1C-4092-A3B4-3140BA7C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C91C-95AE-47D2-95AB-8B76343A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D222-6B55-47CB-A9E4-63916E83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74CF-1C3B-4487-9182-29640DDF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2382C-2F69-4E90-A20A-2DD55602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400E-9424-459D-9DD3-066DBE08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73BB-7410-4366-A275-A0813529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D9CB8-D5C7-47F3-9EB8-7AD45FDD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002C1-4997-4D1E-B545-7E4C712F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7DBA-329B-4108-BA99-E8D9E0BD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F66E6-B201-4189-AD9A-D1722E15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675-F868-406F-967E-CD5B962C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DC8BC-9763-4E66-A509-D8422DAE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99B37-92F8-4DF2-BD69-428D2EBF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B4D0D-97CD-4BE5-BF97-3AE90B8E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3D8C7-6A9A-4B0D-AE94-F7DAAF04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8A3DA-D96C-4707-9B89-D43C9B50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D03ED-E08C-4F91-9D4F-2473D11E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DAA9-F87F-4EF7-96EF-A3A96AFF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1C92C-6790-4EB8-9908-61DE24A9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1BB24-FAAA-4264-8129-8B027629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13557-F3C5-4FA8-8BE9-83DDFBF7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056-3060-438C-AA8D-76B8C386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19E21-21DF-4B72-BCE0-4E65E514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3B6E2-6C17-4D6B-AA49-A7E119E1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A7184-A184-4FCF-8ADB-28D3F0D5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E3D78-5E96-431A-A53F-10CF3570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45E7E-99F8-4A80-8E56-BDCB0495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6C61E-EDE1-4F60-9472-95DF5DE9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70CF7-54E3-4120-8BF2-1834E669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B974-53A0-4B29-A360-24D4E17A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CF7DD-A2AB-495E-BCCC-BDF5A09A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EC84F-F216-408C-99F5-E1C2D5E5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988-0EC8-4485-B09C-6FD74C19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C10A2-99E5-4183-AA5B-569B0E11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78AE5-1611-4F13-9330-A6E0D7CA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89228-A5B5-48C4-B911-78439491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4D0C0-3DFF-416D-B269-8C49DD90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0A16A-2B99-4C7C-997E-13B4782A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7D768-D4AD-45B4-B6BB-9C6DEED8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23A60-D3FB-406A-AF1F-DBA40DF7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153F5-A82B-4BE7-A98F-0F330BC5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064D8-2B2E-4F08-BF11-CF79C4E4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8D99E-AD24-4B2F-AB55-D8E0DE32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67A-37D8-4841-A222-AA1F06D2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9A8D5-56DE-4D17-A3D3-F0BEE0C0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86ABD-8AC9-4FB0-9D75-CFA085EA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D20AB-DA03-436F-8AA4-7C9AC6A4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2A8A0-70C3-432E-9202-DAED6587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A2348-8320-48F6-9727-7CC4B497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C13D9-85B3-4ABE-AE34-B8068B90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B6E9C-0CAC-47EE-990A-55CCFAF0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C52AA-F8B9-4E40-90F4-D55B8182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EB6B8-15B2-49C7-BE09-B75162F5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18F5C-C92A-4E86-A9CE-657690D2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434-F77A-4DEF-AABE-39011074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F18FD-3A9A-4EB1-9361-97DA283A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8B2AB-9073-43B3-BAE5-D134A3C0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D2319-7626-4832-A033-22A16ABC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4EADD-2B50-40A0-B998-F9177D8B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E04D2-21B5-41C4-8057-A14BCC65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E9135-3F3C-4B56-A465-A771FA27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28B40-B7F8-4BE0-9651-B6E9A30F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964CA-9694-4ADA-AF89-4463B52E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BABA2-B126-4A4F-90B7-6094A8D8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4B8F9-5C24-499E-B11F-5AE6A3BA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054-2AD9-4AEA-B8F8-39BB1180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C9701-4D4F-4BAA-B663-4AB8EB0B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B9496-38AA-42AC-A248-52F796F1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05E57-A6D5-4650-B980-D984E182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61339-04F2-474A-AE19-BA26B915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3ECF3-AAA8-41A4-9220-001B1E1E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101B2-7CE7-4122-91E0-CF8D99E7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680DC-C751-4CF5-A089-30D18415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27A8-22CD-4FC6-A63D-EC98CF82988C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EDAD-9FF0-48E6-B180-D6B56B7AD0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E8D7-ED0D-4C47-89DF-89FE0B780A77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F3B0-978C-4512-8A42-54BC4DF99C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C1E9-7092-4548-B59C-8E6640D58296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4045-B0D7-4C3B-AFA9-6EF3EAD649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D25D-D928-434E-8409-5CCE5EB4165D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32E1-F9A6-4B90-A1F3-E3750E4438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312F-F3C0-4212-A740-08B320A33183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EEF3-F459-46AE-8A2E-C794B5721A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1A3C-EFC0-46BB-88AD-7BC62A90634A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73D5-14A4-446F-B7BE-55E08F3DED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B493-5BA7-41E0-8328-206455A60E29}" type="datetime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29FC-4300-4019-AAA3-2CFF41C2EF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A80E-9B60-4561-B9CF-0E08A252CF7F}" type="datetime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31DD-2E56-42D8-9802-41D2722148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700" spc="-1" strike="noStrike">
                <a:solidFill>
                  <a:srgbClr val="0000ff"/>
                </a:solidFill>
                <a:latin typeface="Lucida Sans Unicode"/>
              </a:rPr>
              <a:t>Profesor Luncaș Gali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Date Placeholder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C3C5-F973-41E2-A307-43736138C15C}" type="datetime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Caracteristic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Lucida Sans Unicode"/>
              </a:rPr>
              <a:t>Proprietățile cîmpuril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A19F-6AC7-414E-A2A0-564B6B5AC0E7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2B05-0EDD-4356-9DF5-48943F9BC88C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74760" y="1550880"/>
            <a:ext cx="8412120" cy="4334040"/>
          </a:xfrm>
          <a:prstGeom prst="rect">
            <a:avLst/>
          </a:prstGeom>
          <a:ln w="0">
            <a:noFill/>
          </a:ln>
        </p:spPr>
      </p:pic>
      <p:sp>
        <p:nvSpPr>
          <p:cNvPr id="385" name="TextBox 3"/>
          <p:cNvSpPr/>
          <p:nvPr/>
        </p:nvSpPr>
        <p:spPr>
          <a:xfrm>
            <a:off x="571680" y="28584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fiecare cîmp al tabelului se specifică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ectangular Callout 4"/>
          <p:cNvSpPr/>
          <p:nvPr/>
        </p:nvSpPr>
        <p:spPr>
          <a:xfrm>
            <a:off x="214200" y="642960"/>
            <a:ext cx="1428840" cy="785880"/>
          </a:xfrm>
          <a:prstGeom prst="wedgeRectCallout">
            <a:avLst>
              <a:gd name="adj1" fmla="val -4833"/>
              <a:gd name="adj2" fmla="val 113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285840" y="642960"/>
            <a:ext cx="142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numirea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Rectangular Callout 6"/>
          <p:cNvSpPr/>
          <p:nvPr/>
        </p:nvSpPr>
        <p:spPr>
          <a:xfrm>
            <a:off x="2071800" y="642960"/>
            <a:ext cx="1571400" cy="785880"/>
          </a:xfrm>
          <a:prstGeom prst="wedgeRectCallout">
            <a:avLst>
              <a:gd name="adj1" fmla="val -28592"/>
              <a:gd name="adj2" fmla="val 113699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2143080" y="78588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Tipul cîmpului (obligatoriu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Rectangular Callout 8"/>
          <p:cNvSpPr/>
          <p:nvPr/>
        </p:nvSpPr>
        <p:spPr>
          <a:xfrm>
            <a:off x="4714920" y="714240"/>
            <a:ext cx="2000160" cy="714600"/>
          </a:xfrm>
          <a:prstGeom prst="wedgeRectCallout">
            <a:avLst>
              <a:gd name="adj1" fmla="val -13518"/>
              <a:gd name="adj2" fmla="val 118819"/>
            </a:avLst>
          </a:prstGeom>
          <a:solidFill>
            <a:srgbClr val="ffffff"/>
          </a:solidFill>
          <a:ln w="648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4857840" y="857160"/>
            <a:ext cx="171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Lucida Sans Unicode"/>
              </a:rPr>
              <a:t>Descrierea cîmpului (opțional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3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oate conțin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iferite caracte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pați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u excepția unor semne special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!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ș.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In caz de necesetate denumirea poate folosi semnul ”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_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Lungimea denuirii cîmpului (împreună cu spațiile )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poate fi mai mare ca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6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4E93-5CB0-4807-97EE-B13F50B0ECAA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over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Text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sau numere care nu f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Nu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care vor fi folosite în calcul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Date/Time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date calendaristice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urrency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băneșt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AutoNamber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numere întregi care își măresc în mod automat valorile ( de ex. numărul de ordin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Yes/No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valori logice care pot lua numai două valori: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adevărat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 sau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fals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Memo-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texte lung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OLE Object-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pentru imagini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829F-F0A4-4F0B-A90F-F685BA23C878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35000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3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Fiecare tip de date are proprietățile prestabilite, care pot fi și modificate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Tex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lungimi cuprinse între 1 și 255 de caractere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Number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oate avea opțiuni diferite în dependență de opțiunea specificată în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ield Siz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Date/Time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are lungimea variabilei în funcție de formatul datei/oreispecificat pentru proprietatea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Forma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Cîmpul de tip logic poate fi reprezentat în 4 moduri: </a:t>
            </a:r>
            <a:r>
              <a:rPr b="0" i="1" lang="ro-RO" sz="1600" spc="-1" strike="noStrike">
                <a:solidFill>
                  <a:srgbClr val="000000"/>
                </a:solidFill>
                <a:latin typeface="Lucida Sans Unicode"/>
              </a:rPr>
              <a:t>Yes/No, True/Folse, On/Off, -1(adevarat)/0(fal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Date Placeholder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41D8-1B63-427C-9556-D22DBD90BF43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3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785880" y="2214720"/>
          <a:ext cx="7786800" cy="240984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3357720"/>
                <a:gridCol w="14288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Opțiunea proprietății </a:t>
                      </a:r>
                      <a:r>
                        <a:rPr b="1" i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ield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olumul memorie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alorile accept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5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umărul  cifrelor zecim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y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 oct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 .. 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2768 .. 327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ong Integ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147483648 .. 21474836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pses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ing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3.4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ou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 octeț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.. 1.797x10</a:t>
                      </a:r>
                      <a:r>
                        <a:rPr b="0" lang="ro-RO" sz="15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3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≤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D46D-9CC3-4331-B40C-B50CE86581A0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3500280" cy="3714840"/>
          </a:xfrm>
          <a:prstGeom prst="rect">
            <a:avLst/>
          </a:prstGeom>
          <a:ln w="0">
            <a:noFill/>
          </a:ln>
        </p:spPr>
      </p:pic>
      <p:sp>
        <p:nvSpPr>
          <p:cNvPr id="404" name="TextBox 3"/>
          <p:cNvSpPr/>
          <p:nvPr/>
        </p:nvSpPr>
        <p:spPr>
          <a:xfrm>
            <a:off x="4143240" y="1428840"/>
            <a:ext cx="4643640" cy="44830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Succ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 </a:t>
            </a: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la specificarea corect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dobe Garamond Pro Bold"/>
              </a:rPr>
              <a:t>a caracteristicilor cîmpurilor  si la stabilirea proprietăților atributelor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Gr. Vasilache, Iu.Mocanu, I.Covalenc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V.Moraru, L. Carcea, V.Negură, M.Anischevici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Windows Word Excel Access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, Chișinău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Centrul Noilor Tehnologii Informaționale,1999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pp.130-13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Date Placeholder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D17F-75C3-425B-B812-66DD06A3B2D1}" type="datetime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4:02:54Z</dcterms:created>
  <dc:creator>Galina</dc:creator>
  <dc:description/>
  <dc:language>en-US</dc:language>
  <cp:lastModifiedBy>Galina</cp:lastModifiedBy>
  <dcterms:modified xsi:type="dcterms:W3CDTF">2010-01-31T16:22:39Z</dcterms:modified>
  <cp:revision>14</cp:revision>
  <dc:subject/>
  <dc:title>Aplicaţia Microsoft ACCESS</dc:title>
</cp:coreProperties>
</file>