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3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click.wav" ContentType="audio/x-wav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C1CF-2BB8-4F57-B35C-436BCFC3B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48F5-701C-4F26-9627-73A8514BA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353E-194A-4E55-B9B1-59A992DCB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7DA1-36A2-4DA1-AFCD-AB0C589FF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141A-5FA5-4445-86B8-266D6DB44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E261-8804-49A4-A00A-4E67A3E6E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5FF5-DD24-439F-A0D4-4635FDE12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133C-AB24-4D39-8118-8F5EE69AA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2BF0-0CF2-4421-B3C9-8D37AAA75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FF53-DDFF-415E-AF80-361611C6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6AE3-A84A-4643-B8A1-1D1764EB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203B-DF5E-434B-9079-52994C2C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0EC-2696-47CE-8156-158E1E4F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E5AA-F743-4F9F-960B-01771113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344B-972D-4087-AEED-FE5F6A67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16BE-7133-41BA-B874-49DFFB71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1388-0C07-4281-B78E-A96F81EE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077F-EB47-4049-B9F1-299A7398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9C14-E8DD-42DD-8E74-4A54D6FA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4218-1FD0-4BD5-873D-8820AB21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B4E-DB4D-4627-964F-FA775742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DED5-44A5-40F0-93D0-9E11B42D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098C-7E30-4C22-BF99-0DFCBC12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3994-4DFF-41BC-9328-71BB8256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7601-1B0E-4022-A184-64C6468E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B5E7-34D4-47FF-BE87-BAD01135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755B5-6E62-4921-B5F8-6F0AA2B2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ACF04-D82C-4531-8952-74747A45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560F-6D6F-4040-8C25-56627C06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C50AB-C9AD-4BF0-80DA-B621D753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04E22-DAB2-4386-929C-16D068BF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3BF1-D581-493D-AA74-09638825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45D06-A3AE-4181-97F4-95CD37C5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F0FFE-5B8A-479A-9AAC-56B66CCB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BB8BE-6C29-400E-AF75-117CECEC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495FE-94EC-48C4-B204-D3876FED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91A74-62C3-4943-9170-6A404545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15C85-CEF4-476D-BB6D-3E4C9A42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4D840-272B-44F4-BCC4-89CC5975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0163F-001A-4BDA-8E04-2DFAEA0F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E3A54-D309-4E45-82E3-9762ED1B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AECB5-15A4-46D3-88BA-989E71C9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9037-E27B-499A-AC7C-96965B6C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E2AAB-75A0-4ADB-9442-A1548028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5290-4131-4926-B652-46595E40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19D18-8783-46F8-82DC-D00F53FF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7C14F-6416-4E67-8774-3386DCD9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7DF54-4325-4749-B2B9-4AA7377B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EE398-B93F-4357-A52C-DB06A6D1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443EF-6687-4661-B068-12B2E793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FD856-1C98-4A6A-A6B6-89432088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A99CA-E1D2-4E1A-9995-7E96BEC8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900E8-B6DC-4057-BFC9-36C72626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447-3642-4ECC-9BAA-B8ED4192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38606-1356-4478-80A9-50591630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2F512-7A9F-41F2-8A2D-91AC701E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F59D1-1B85-4271-8CC6-97C9FCEE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44063-D899-41AA-BF42-813F93D8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5944F-8D38-47F4-A6AD-60877BEF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572E1-03D8-4DA0-9F93-31E308A2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30CF6-F456-492F-AF34-78ED3BE6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0F320-19E1-4158-82AD-C9CFF174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52B6E-3195-4496-AC09-0AC3DD3C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A1B58-B644-47AA-88E3-31DE802D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B0F-6095-48B3-9A30-08C9EEC1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5E1D2-EAA9-4BC0-8EB8-84EA37CE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EC96E-01B1-4794-AD93-184457D5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97B6C-D358-472F-9645-97137959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7D236-F3C8-4BEF-8AEA-F3DC6B3E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F9B74-23D5-4F7B-ABB1-26115F96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BA5CA-B0B6-4D62-A4D3-10447364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7F5B4-CFE1-44CB-8A5E-43EE66BA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F6FD5-BB4B-4468-BADB-0B2C69D4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362FA-2577-4415-9634-F6A7147C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A61EF-3E31-41AE-A61D-A146BB49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22F-752B-4381-96BF-3ED36271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52E4D-9398-44CE-A730-20735B68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01B2E-703B-4C1F-84AD-6803CC36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3B12B-4A18-4E2E-97EB-1CAEDE8D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453E4-6A1C-4D78-8B7A-6AF57452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F42BD-CF73-47C7-8A6F-5C1C79CE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52A1B-0DB7-44E2-93DC-9EF6C272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69B9D-CC9C-41B8-A0F4-895C80AB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C53DC-1C30-4F1E-B124-39A66469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B3424-8E29-4D1D-8062-6ECBEF46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BFB64-6884-44B9-85A2-71BA5D1C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072-3717-457A-884E-61DC76E6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51A25-6CED-40FA-A433-E54540C7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BCE08-D4B4-4CCB-9289-AEDE2A7E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26611-D433-4CBD-AB98-92F1DEAC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D10D1-70FC-4F53-9BAB-6528E815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69352-EE68-4E9A-9AEB-CAD070BA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10BDB-1E30-4B83-B1A8-5DF37827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A4F9D-A7F6-41B1-A06D-D81C3869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33596-36DF-4B75-9D00-F8F58BFC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BFF4A-DBF1-4300-B0D1-244D6460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3FB78-97F4-48B2-A052-3049721B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59C9-5029-4049-8709-3F5DC1DF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153C6-2B9A-4411-A7B8-66BA20FB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BCB9A-D4B4-46BF-A10B-CCE7E3A6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434B9-EDFA-48DD-89ED-09494BEC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31DB7-94A1-4B9F-A5B7-5D2ADA41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0915F-49F9-4FCD-83BA-3C47D7D5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DF929-B94B-4E7B-A053-931AD652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3D4CF-3426-4DBD-9574-3CBD8AB9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8B2B-EBD4-4BFC-B627-E9119DC9DDFD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01F8-B6B9-4E1E-8643-D571FFEB31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D5F5-D6E1-434C-998F-8997A5011F96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EF15-0B4D-431D-9820-984D0CEDC3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851B-C1D9-48E9-8B25-D9185803BBB9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D6E1-342D-4F79-836D-8E1E55846C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C73D-196D-4A5D-ACD3-1D81CA2F2445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0C04-E07F-4CE9-880F-B63C6A393A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1C40-2E95-4C6B-8FBB-36A8F1C6828F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1A77-C476-406F-852B-65CC99AE10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F652-9AEB-43BE-AAE5-A800AEBE80B4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9B7A-3AF2-4206-AA35-BE68C8DB83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2B64-47A2-4F38-9B60-6C95775F9628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CEB2-BE4A-4E7B-9E7B-73C5A1B976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B5B2-AC55-456A-9DA5-B4DE2B013919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BF82-8070-40EB-9994-8ADCFAFD84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700" spc="-1" strike="noStrike">
                <a:solidFill>
                  <a:srgbClr val="0000ff"/>
                </a:solidFill>
                <a:latin typeface="Lucida Sans Unicode"/>
              </a:rPr>
              <a:t>Profesor Luncaș Gali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Date Placeholder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212F-EFC0-4494-9673-26EBF4E8190D}" type="datetime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Lucida Sans Unicode"/>
              </a:rPr>
              <a:t>Caracteristicile cîmpuril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Lucida Sans Unicode"/>
              </a:rPr>
              <a:t>Proprietățile cîmpuril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6DA1-9949-4D61-B5F3-CEFC7B9E408C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BBB6-5D68-4281-9247-F7760DB169BA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374760" y="1550880"/>
            <a:ext cx="8412120" cy="4334040"/>
          </a:xfrm>
          <a:prstGeom prst="rect">
            <a:avLst/>
          </a:prstGeom>
          <a:ln w="0">
            <a:noFill/>
          </a:ln>
        </p:spPr>
      </p:pic>
      <p:sp>
        <p:nvSpPr>
          <p:cNvPr id="385" name="TextBox 3"/>
          <p:cNvSpPr/>
          <p:nvPr/>
        </p:nvSpPr>
        <p:spPr>
          <a:xfrm>
            <a:off x="571680" y="28584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fiecare cîmp al tabelului se specifică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Rectangular Callout 4"/>
          <p:cNvSpPr/>
          <p:nvPr/>
        </p:nvSpPr>
        <p:spPr>
          <a:xfrm>
            <a:off x="214200" y="642960"/>
            <a:ext cx="1428840" cy="785880"/>
          </a:xfrm>
          <a:prstGeom prst="wedgeRectCallout">
            <a:avLst>
              <a:gd name="adj1" fmla="val -4833"/>
              <a:gd name="adj2" fmla="val 113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285840" y="642960"/>
            <a:ext cx="142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Denumirea cîmpului (obligatoriu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Rectangular Callout 6"/>
          <p:cNvSpPr/>
          <p:nvPr/>
        </p:nvSpPr>
        <p:spPr>
          <a:xfrm>
            <a:off x="2071800" y="642960"/>
            <a:ext cx="1571400" cy="785880"/>
          </a:xfrm>
          <a:prstGeom prst="wedgeRectCallout">
            <a:avLst>
              <a:gd name="adj1" fmla="val -28592"/>
              <a:gd name="adj2" fmla="val 113699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2143080" y="78588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Tipul cîmpului (obligatoriu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Rectangular Callout 8"/>
          <p:cNvSpPr/>
          <p:nvPr/>
        </p:nvSpPr>
        <p:spPr>
          <a:xfrm>
            <a:off x="4714920" y="714240"/>
            <a:ext cx="2000160" cy="714600"/>
          </a:xfrm>
          <a:prstGeom prst="wedgeRectCallout">
            <a:avLst>
              <a:gd name="adj1" fmla="val -13518"/>
              <a:gd name="adj2" fmla="val 118819"/>
            </a:avLst>
          </a:prstGeom>
          <a:solidFill>
            <a:srgbClr val="ffffff"/>
          </a:solidFill>
          <a:ln w="64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TextBox 9"/>
          <p:cNvSpPr/>
          <p:nvPr/>
        </p:nvSpPr>
        <p:spPr>
          <a:xfrm>
            <a:off x="4857840" y="857160"/>
            <a:ext cx="171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Descrierea cîmpului (opțional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oate conțin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iferite caracte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pați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u excepția unor semne special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!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ș.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In caz de necesetate denumirea poate folosi semnul ”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_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Lungimea denuirii cîmpului (împreună cu spațiile )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nu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poate fi mai mare ca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6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2F44-F86B-4BDE-9F65-7791C5FA830F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Text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texte sau numere care nu for fi folosite în calcul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Number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numere care vor fi folosite în calcul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Date/Time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date calendaristic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Currency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valori băneșt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AutoNamber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numere întregi care își măresc în mod automat valorile ( de ex. numărul de ordin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Yes/No-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valori logice care pot lua numai două valori: </a:t>
            </a: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adevărat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 sau </a:t>
            </a: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fals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Memo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texte lung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OLE Object-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imagin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9AA5-6E34-4ED4-9BA3-03178263D9B0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advTm="35000"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Fiecare tip de date are proprietățile prestabilite, care pot fi și modificate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Text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poate avea lungimi cuprinse între 1 și 255 de caractere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Number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poate avea opțiuni diferite în dependență de opțiunea specificată în proprietatea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Field Size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Date/Time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are lungimea variabilei în funcție de formatul datei/oreispecificat pentru proprietatea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Format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logic poate fi reprezentat în 4 moduri: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Yes/No, True/Folse, On/Off, -1(adevarat)/0(fals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6A29-9779-4740-9EE8-AA86BF187C33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3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785880" y="2214720"/>
          <a:ext cx="7786800" cy="240984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3357720"/>
                <a:gridCol w="14288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Opțiunea proprietății </a:t>
                      </a:r>
                      <a:r>
                        <a:rPr b="1" i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eld S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olumul memorie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alorile accept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umărul  cifrelor zecim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y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 oct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 .. 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g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2768 .. 327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ong Integ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147483648 .. 21474836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ing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.4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8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.. 3.4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≤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u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797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08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.. 1.797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≤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0341-B946-4E40-BF14-B3D84ECCF9F1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3500280" cy="3714840"/>
          </a:xfrm>
          <a:prstGeom prst="rect">
            <a:avLst/>
          </a:prstGeom>
          <a:ln w="0">
            <a:noFill/>
          </a:ln>
        </p:spPr>
      </p:pic>
      <p:sp>
        <p:nvSpPr>
          <p:cNvPr id="404" name="TextBox 3"/>
          <p:cNvSpPr/>
          <p:nvPr/>
        </p:nvSpPr>
        <p:spPr>
          <a:xfrm>
            <a:off x="4143240" y="1428840"/>
            <a:ext cx="4643640" cy="448308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Succ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 </a:t>
            </a: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la specificarea corecta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a caracteristicilor cîmpurilor  si la stabilirea proprietăților atributelor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advTm="5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Gr. Vasilache, Iu.Mocanu, I.Covalenco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V.Moraru, L. Carcea, V.Negură, M.Anischevici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Windows Word Excel Access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, Chișinău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Centrul Noilor Tehnologii Informaționale,1999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pp.130-13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B3E3-366C-43EB-9DB3-D07EC5A81129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4:02:54Z</dcterms:created>
  <dc:creator>Galina</dc:creator>
  <dc:description/>
  <dc:language>en-US</dc:language>
  <cp:lastModifiedBy>Galina</cp:lastModifiedBy>
  <dcterms:modified xsi:type="dcterms:W3CDTF">2010-01-31T16:22:39Z</dcterms:modified>
  <cp:revision>14</cp:revision>
  <dc:subject/>
  <dc:title>Aplicaţia Microsoft ACCESS</dc:title>
</cp:coreProperties>
</file>