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glass.wav" ContentType="audio/x-wav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6247-F0BC-4702-BFE2-0BB37F93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5065-E097-43A2-8EAA-B4EBCFF5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4E9-6F3F-4E97-8D6A-628A0268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96A-969B-493E-B748-AA170037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28CC-DDF4-4145-9B3D-22C788C7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FA02-4BA1-4199-9D54-012DD62C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36FC-AC15-436D-8A1E-9D4EE60A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8915-AF69-43BE-BDC3-D6AA3164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F7D7-EF89-4271-9BC5-D7137A4C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4846-4024-41E1-903C-667A3A04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ED3A-8FBC-42DC-BADE-ED0B200E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65B-D830-4C51-9682-3890C3F0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6B43-65D3-41F9-A048-24B5FD0D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57DF-1ED2-43F5-93F6-6B6C1D39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ECEF-BF78-4B3B-BF52-E46AEC75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AFC2-A3B4-4E28-8860-08DB360F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24B6-6EDD-49F7-8183-DAC092BE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83F-2071-40E5-BA5E-12415DFB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2B9-3B09-4795-81C2-04D65393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D61-4F74-4F45-9602-7EB1B7C9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EEF-DA1D-4AEB-BE83-105F2FBE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CC9-DC9A-40C8-B133-4A7F2451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769-5134-4A67-854D-08E9B8CD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512-BAA8-4C14-932D-B447D2F3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768E-E1C9-4900-A5DD-38F649987F0F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C134-B82F-40A4-8237-37670D55EC2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EDC1-B180-46AD-A21E-167FB0BB04FF}" type="datetime3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245B-D1CF-4E4A-B443-5418D5F3B84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iective  operaţional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finească  noţiunile  de  baze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descrie etapele de  obţinere a  unei  baze  de  date, a unui  tabel, a unei  interogări, a unui formular şi raport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evidenţieze  obiectele aplicaţiei  Access  pentru  realizarea  bazelor  de  date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algn="just">
              <a:spcBef>
                <a:spcPts val="624"/>
              </a:spcBef>
              <a:buClr>
                <a:srgbClr val="660066"/>
              </a:buClr>
              <a:buSzPct val="90000"/>
              <a:buFont typeface="Wingdings 3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660066"/>
                </a:solidFill>
                <a:latin typeface="Tahoma"/>
              </a:rPr>
              <a:t>să  utilizeze  corect  toate  obiectele  din  fereastra aplicaţiei  Access  pentru  rezolvarea  aplicaţiei;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1FB-371C-493B-B5B1-39AFF53DFA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FD6CD-F324-402C-B6D4-FD7F7AFDE2F1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214200" y="0"/>
            <a:ext cx="87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4)Introduceti urmatoarele inregistrari in tabela Echip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850716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D90-CA24-4383-B121-DC9DAA54201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C0959-0520-4DC9-B872-27199D059220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-12600" y="2160"/>
            <a:ext cx="86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5)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Utilizand instrumentul de cautare, gasiti inregistrarea din localitate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luj-Napoca. Modificati localitatea in Cluj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642960" y="1285920"/>
            <a:ext cx="6912000" cy="4319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13C-78D8-49FB-8E01-D1E6E1F786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24F86-1050-4136-A87E-A5C7EEF0C8CF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112320"/>
            <a:ext cx="973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6)Adaugati urmatorul atribut  Numar_campioana (tip integer) si completati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inregistrarile cu urmatoarele numere:15, 6, 2 , 10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286840" cy="48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363-CF2F-4037-B361-01424776DB4B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6EE10-B791-4ABB-B6FB-514CBE7261A3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-7560" y="720"/>
            <a:ext cx="71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7) Modificati lungimea coloan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um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la 100 de caractere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2"/>
          <a:stretch/>
        </p:blipFill>
        <p:spPr>
          <a:xfrm>
            <a:off x="857160" y="192888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422-589F-4AE0-B552-1EA45CFBDFB8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25FC7-AD7D-4478-9B77-1D7C35FF57CD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-10440" y="360720"/>
            <a:ext cx="866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8)Introduceti inca o inregistrare in tabela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: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, Steaua, Bucuresti,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tr Ghencea 19, 12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289-0360-43EE-9735-9B73B91DE5A7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80260-E463-4D51-A970-13799C82C4BE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720" y="122040"/>
            <a:ext cx="839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9) Redenumiti coloana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_club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in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adresa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 si apoi sortati crescator dupa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campul </a:t>
            </a:r>
            <a:r>
              <a:rPr b="1" i="1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nume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2"/>
          <a:stretch/>
        </p:blipFill>
        <p:spPr>
          <a:xfrm>
            <a:off x="1071720" y="1428840"/>
            <a:ext cx="691164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60D-6414-4FED-B700-9963DBD5FD6E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34C4A-AE9C-416B-9585-B09FA5A36E89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-6840" y="2160"/>
            <a:ext cx="59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)Creeati tabela echipe (in modul design view)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2"/>
          <a:stretch/>
        </p:blipFill>
        <p:spPr>
          <a:xfrm>
            <a:off x="571680" y="13572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3772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365-DCE0-4CEB-81EB-3B9C241BFC4C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C5AE8-3EB2-4D16-AD68-82C824089C0C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-101880"/>
            <a:ext cx="6586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1)  Introduceti urmatoarele inregistrari in tabela   Ju</a:t>
            </a:r>
            <a:r>
              <a:rPr b="1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tori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0" name="Picture 1" descr=""/>
          <p:cNvPicPr/>
          <p:nvPr/>
        </p:nvPicPr>
        <p:blipFill>
          <a:blip r:embed="rId2"/>
          <a:stretch/>
        </p:blipFill>
        <p:spPr>
          <a:xfrm>
            <a:off x="1000080" y="2214720"/>
            <a:ext cx="715032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5FEF-0CAD-4DAA-9A32-B9A47348F0ED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F9171-EB8C-4EB4-817C-B912AE35A0C0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-11880" y="2160"/>
            <a:ext cx="91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1)Creati o interogare asupra tabele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in care sa afisati doar prim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 campuri din tabela</a:t>
            </a:r>
            <a:r>
              <a:rPr b="0" lang="en-US" sz="12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2"/>
          <a:stretch/>
        </p:blipFill>
        <p:spPr>
          <a:xfrm>
            <a:off x="928800" y="1214280"/>
            <a:ext cx="7812000" cy="450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0AE-E5AF-4771-B4E8-9C655EB50D83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4DF7B-BD11-401D-BE77-0BA55C11FFC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240" y="72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Salvati-o cu num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2"/>
          <a:stretch/>
        </p:blipFill>
        <p:spPr>
          <a:xfrm>
            <a:off x="1000080" y="17859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C83-94CE-4140-B3E1-47136C219FFB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38540-A294-44DC-A8FA-85936070F35B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660066"/>
                </a:solidFill>
                <a:latin typeface="Tahoma"/>
              </a:rPr>
              <a:t>Baze de date</a:t>
            </a:r>
            <a:endParaRPr b="0" lang="en-US" sz="53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85800" y="2895480"/>
            <a:ext cx="9295920" cy="2226960"/>
            <a:chOff x="685800" y="2895480"/>
            <a:chExt cx="9295920" cy="2226960"/>
          </a:xfrm>
        </p:grpSpPr>
        <p:sp>
          <p:nvSpPr>
            <p:cNvPr id="138" name=""/>
            <p:cNvSpPr/>
            <p:nvPr/>
          </p:nvSpPr>
          <p:spPr>
            <a:xfrm>
              <a:off x="685800" y="2895480"/>
              <a:ext cx="9295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" y="2895480"/>
              <a:ext cx="92959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O baza de date (BD) reprezinta o colectie d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       integrata, anume structurata si dotata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cu o descriere a structurii si a relatiilor dintre 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45353"/>
                  </a:solidFill>
                  <a:latin typeface="Tahoma"/>
                </a:rPr>
                <a:t>Date.</a:t>
              </a: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081-5BC7-4CA7-869B-1FF700780D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4DE7B-54B9-4AE7-B9B4-BB4A112724BD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-12960" y="-11520"/>
            <a:ext cx="983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3) Creati o interogare asupra tabelei echipe in care sa se afiseze doar echipel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are au castigat campionatul de cel putin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0 ori. Salvati-o cu numele  I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2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2"/>
          <a:stretch/>
        </p:blipFill>
        <p:spPr>
          <a:xfrm>
            <a:off x="1000080" y="185724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87F-CD72-4E34-BB45-27F809F63C33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D7DD8-EB5A-415F-9EC6-F4835D4AA8D3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-12960" y="2160"/>
            <a:ext cx="90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4)Creati o interogare si salvati-o cu numel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3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 echip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 care sa apara doar echipele din Bucurest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1143000" y="20001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75F-2989-4DE3-A495-9199EA8C2253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62307-EA27-4C50-AF0E-62D3581E3D42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-13680" y="2160"/>
            <a:ext cx="94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15) Modificat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1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astfel incat sa afiseze doar echipele al caror num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incep cu “U”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1143000" y="178596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A5E-83EE-48E2-8327-A8FA591512A3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D06E1-9040-4D0F-9BC4-FCE01BD4C45D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2)Creati un raport asupra tabelei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. Salvati-l cu numele de </a:t>
            </a:r>
            <a:r>
              <a:rPr b="0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_raport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, si apoi scrieti titlul raportului cu rosu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7149960" cy="431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5610-0FB9-434E-9DDB-D6C6B062DCF3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90457-6459-4B08-9971-8B6937E0C0D7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-684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23)Stabiliti o relatie intre tabelele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egula: Legatura intre doua tabele nu se poate face dupa orice campuri, ci numai dupa acelea care intr-o tabela sunt cheie primara si in cealalta tabela reprezinta cheie extern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ele doua campuri prin care se stabileste relatia trebuie sa fie de acelasi tip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1000080" y="2000160"/>
            <a:ext cx="7150320" cy="43196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512-16C3-4332-9F82-27D27E42748E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BAB23-5E6A-49B3-839C-0890493FF650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680" y="9720"/>
            <a:ext cx="936288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6)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4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afiseze  jucatorii care nu au marcat niciun gol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7)Creati o interogare numita i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nterogare5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care fac parte si din echipa nationala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8) Creati o interogare numit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interogare6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e sa  afiseze doar jucatorii al caror nume incep cu “D” sau al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Caror  prenume incep cu “C”. (like “D*” or like “C*”)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19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0)Creati un formular pe tabela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21)Creati un formulare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Echipe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</a:rPr>
              <a:t>Jucatori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1)Creati un raport asupra tabele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2) Creati un raport asupra tabelei Jucatori,in care numele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lor sa fie ordonat alfabetic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23)Creati un raport pe tabelele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Jucatori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 si </a:t>
            </a:r>
            <a:r>
              <a:rPr b="0" i="1" lang="en-US" sz="2400" spc="-1" strike="noStrike">
                <a:solidFill>
                  <a:srgbClr val="545472"/>
                </a:solidFill>
                <a:latin typeface="Arial"/>
                <a:ea typeface="Times New Roman"/>
              </a:rPr>
              <a:t>Echip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437-C8F3-4E86-BD55-428DC3753702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93B52-0494-40AD-B618-AFCDD2033D43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4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491400" y="1740600"/>
            <a:ext cx="680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Tabele – contin toate inregistraril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Interogari – localizeaza inregistrari specifice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Formulare – afiseaza inregistrarile din tabele, una cite una 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Rapoarte – tiparesc loturi de inregistrari</a:t>
            </a:r>
            <a:br>
              <a:rPr sz="1800"/>
            </a:b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 de acces la date – pun la dispozitie date prin intermediul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paginilor Web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buClr>
                <a:srgbClr val="54547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acrocomenzi – actiuni automate uzual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BA9-048D-4AE0-9660-4811C26B41F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1CBB9-A876-461E-99B9-9556BE798A50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4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b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880" y="1447920"/>
            <a:ext cx="8432640" cy="4570920"/>
            <a:chOff x="380880" y="1447920"/>
            <a:chExt cx="8432640" cy="4570920"/>
          </a:xfrm>
        </p:grpSpPr>
        <p:sp>
          <p:nvSpPr>
            <p:cNvPr id="146" name=""/>
            <p:cNvSpPr/>
            <p:nvPr/>
          </p:nvSpPr>
          <p:spPr>
            <a:xfrm>
              <a:off x="380880" y="1447920"/>
              <a:ext cx="8432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880" y="1447920"/>
              <a:ext cx="8432640" cy="45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8920" bIns="22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nt cele mai importante obiecte ale unei baze de date.</a:t>
              </a: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Dacă o BD nu conţine cel puţin un tabel, crearea altor clase de obiecte devine lipsită de sens.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entru fiecare cîmp al tabelului se specifică 3 caracteristici, şi anume: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Field Name (denumirea  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ata Type (tipul cîmpului, obligatoriu);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• Description (descrierea cîmpului, opţional).</a:t>
              </a:r>
              <a:br>
                <a:rPr sz="2000"/>
              </a:b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1CD-2DF8-4248-A650-B55D846B909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8F29A-5435-4E8D-8FC8-9150041F85CC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38280"/>
            <a:ext cx="9144000" cy="298800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o interogare pentru găsirea și preluarea doar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a datelor care îndeplinesc condițiile precizate,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inclusiv datele din tabele   multiple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170160"/>
            <a:ext cx="9144000" cy="972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80880"/>
            <a:ext cx="68468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660066"/>
                </a:solidFill>
                <a:latin typeface="Lucida Sans Unicode"/>
              </a:rPr>
              <a:t>Interogari</a:t>
            </a:r>
            <a:br>
              <a:rPr sz="4100"/>
            </a:br>
            <a:endParaRPr b="0" lang="en-US" sz="55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24C-125D-4426-BFCC-87C5AF57F31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EE79D-07A9-4642-8AE5-AD74690D7F3D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rmul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66880"/>
            <a:ext cx="9144000" cy="10976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  <a:ea typeface="Tahoma"/>
              </a:rPr>
              <a:t>Se creează un formular pentru vizualizarea, introducerea, și modificarea ușoară a datelor direct într-un tabel.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23064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080-80D5-40DB-B33B-96BDE5D3EF7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C74F7-7315-49F3-8085-6AC7481D2496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2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  <a:ea typeface="Tahoma"/>
              </a:rPr>
              <a:t>Rapoarte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Pentru a creea rapoarte trebuie să stabiliți mai întâi care câmpuri conțin datele pe care doriți să le vedeți în raport și în ce tabele sau interogări se află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EC1-06C2-4E2E-9D54-5BCA10C41A6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A4882-F0C4-4281-8B2A-929D46359CDA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6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6360" y="285840"/>
            <a:ext cx="839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APLICATIE: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)Creez o baza de date numita FOTBAL.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545472"/>
                </a:solidFill>
                <a:latin typeface="Arial"/>
              </a:rPr>
              <a:t>2)Creez tabela: ECHIPE  (in modul DESIGN VIEW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1500120" y="2357280"/>
            <a:ext cx="6494400" cy="3924360"/>
          </a:xfrm>
          <a:prstGeom prst="rect">
            <a:avLst/>
          </a:prstGeom>
          <a:ln w="9360">
            <a:solidFill>
              <a:srgbClr val="a7ccd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6A5-25B3-4A6B-8AB0-7743821DC526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27FC3-075D-4505-961F-B4A26B8CE448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-7920" y="5400"/>
            <a:ext cx="893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3)Stabiliti  campul </a:t>
            </a:r>
            <a:r>
              <a:rPr b="1" i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od </a:t>
            </a:r>
            <a:r>
              <a:rPr b="1" lang="en-US" sz="2000" spc="-1" strike="noStrike">
                <a:solidFill>
                  <a:srgbClr val="545472"/>
                </a:solidFill>
                <a:latin typeface="Arial"/>
                <a:ea typeface="Times New Roman"/>
              </a:rPr>
              <a:t>cheie primara a tabelei.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MPORTANT:Cheia primara a unei tabele este un camp sau o combin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 campuri prin care se identifica in mod unic  o anumita inregistrare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in tabela.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7149960" cy="43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CBE-07B4-4667-94DE-8556DDB848C6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D8A17-C605-4FE6-8A8E-54FDFA280A2B}" type="datetime3">
              <a:rPr lang="en-US"/>
              <a:t>July 28, 2026</a:t>
            </a:fld>
          </a:p>
        </p:txBody>
      </p:sp>
    </p:spTree>
  </p:cSld>
  <p:transition spd="slow">
    <p:cover dir="ru"/>
    <p:sndAc>
      <p:stSnd>
        <p:snd r:embed="rId3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9:33:30Z</dcterms:created>
  <dc:creator>amdl</dc:creator>
  <dc:description/>
  <dc:language>en-US</dc:language>
  <cp:lastModifiedBy>Cris</cp:lastModifiedBy>
  <dcterms:modified xsi:type="dcterms:W3CDTF">2010-05-24T11:57:30Z</dcterms:modified>
  <cp:revision>59</cp:revision>
  <dc:subject/>
  <dc:title>Rapoarte</dc:title>
</cp:coreProperties>
</file>