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glass.wav" ContentType="audio/x-wav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6B65-CB5E-4D6F-8D95-E217D5DA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F339-E4E9-4B59-998C-8E205EA4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7CE4-E8C0-43CB-B6C6-613A3031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D333-2196-474A-8330-1E8646F2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5655-19A0-4027-A1E6-B5C18BFD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C4E5-EB47-46B9-87EC-9C1B7F83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F9FB-EE99-4852-9308-C168FB25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F3EF-B02E-4778-B3FD-3FCCADFE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2920-8172-4C43-A71B-97596101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2F34-2E3F-4FD6-A5C0-1C491388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C06B-5790-4A1A-A4C6-9D23CF48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540-DDDA-403D-A898-EB845C32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DE6C-9B25-4148-8FE2-A42B4C80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B367-17AC-4D21-B992-218867DE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2234-7E5F-4FC4-BD25-E45B405E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69F6-13D0-4B24-BD1B-2457DF82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EC7A-BDB1-4E1D-96CC-587C437F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58C4-80C5-4F11-A0DE-1B711B80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1790-EDAD-4ED1-9E1F-272AE6D1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7B3C-ED93-4EDD-A774-F7D66DC2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5EA2-7201-4883-B419-3FEBCEB1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34D5-54A6-41F2-B489-AC00A424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BB61-93BB-4628-BA00-B6E11397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5D65-9B29-49BE-89B0-FD0C72D9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B539-248D-46E6-BA15-1996A932BFFA}" type="datetime3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D770-C0B0-4C79-9DA5-2D86D98CDB09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F3F6-0CBA-4315-91DA-D8E805CD86EE}" type="datetime3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B701-4189-4A33-B456-340173D713EC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audio" Target="../media/glas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iective  operaţionale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definească  noţiunile  de  baze  de  date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descrie etapele de  obţinere a  unei  baze  de  date, a unui  tabel, a unei  interogări, a unui formular şi raport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evidenţieze  obiectele aplicaţiei  Access  pentru  realizarea  bazelor  de  date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utilizeze  corect  toate  obiectele  din  fereastra aplicaţiei  Access  pentru  rezolvarea  aplicaţiei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96B0-B76C-4DAF-9AD2-195668B1AE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7DF49-F54A-4F2C-A4CD-5F457551B52E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214200" y="0"/>
            <a:ext cx="87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4)Introduceti urmatoarele inregistrari in tabela Echip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571680" y="1357200"/>
            <a:ext cx="8507160" cy="517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2451-8B9D-471D-AFC4-0161170F5F20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84C46-B9D4-46A5-8DD0-B1B38A2A68EE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-12600" y="2160"/>
            <a:ext cx="86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5)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Utilizand instrumentul de cautare, gasiti inregistrarea din localitatea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luj-Napoca. Modificati localitatea in Cluj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642960" y="1285920"/>
            <a:ext cx="6912000" cy="4319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B503-17AD-424F-A864-C7344E655AA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FD6A0-7FE7-419C-BEBF-7490E7EDCC92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112320"/>
            <a:ext cx="973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6)Adaugati urmatorul atribut  Numar_campioana (tip integer) si completati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inregistrarile cu urmatoarele numere:15, 6, 2 , 10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8" name="Picture 1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286840" cy="48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994C-91BA-48F2-A9ED-0C9BB17CA34D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7B3E1-0B8A-4695-9E92-50CF70E0A45D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-7560" y="720"/>
            <a:ext cx="71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7) Modificati lungimea coloane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nume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la 100 de caractere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0" name="Picture 1" descr=""/>
          <p:cNvPicPr/>
          <p:nvPr/>
        </p:nvPicPr>
        <p:blipFill>
          <a:blip r:embed="rId2"/>
          <a:stretch/>
        </p:blipFill>
        <p:spPr>
          <a:xfrm>
            <a:off x="857160" y="192888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5DCC-0B62-4E29-9CC5-2EE524607AE0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7FC5A-6F79-46CB-9CCF-E8D85AEDEABA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-10440" y="360720"/>
            <a:ext cx="866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8)Introduceti inca o inregistrare in tabela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: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2, Steaua, Bucuresti,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Str Ghencea 19, 12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2"/>
          <a:stretch/>
        </p:blipFill>
        <p:spPr>
          <a:xfrm>
            <a:off x="928800" y="1571760"/>
            <a:ext cx="7149960" cy="43192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0" y="3772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F514-1026-4D5F-82A2-C23718526A49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51D11-EAF6-4989-9CDB-928A59DC4456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720" y="12204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9) Redenumiti coloana </a:t>
            </a:r>
            <a:r>
              <a:rPr b="1" i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adresa_club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 in </a:t>
            </a:r>
            <a:r>
              <a:rPr b="1" i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adresa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 si apoi sortati crescator dupa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campul </a:t>
            </a:r>
            <a:r>
              <a:rPr b="1" i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nume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2"/>
          <a:stretch/>
        </p:blipFill>
        <p:spPr>
          <a:xfrm>
            <a:off x="1071720" y="1428840"/>
            <a:ext cx="691164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4215-B9FB-45CC-A664-2758052E4176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DC798-13AF-4643-AA53-A04F59BE90BB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-6840" y="2160"/>
            <a:ext cx="59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0)Creeati tabela echipe (in modul design view)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2"/>
          <a:stretch/>
        </p:blipFill>
        <p:spPr>
          <a:xfrm>
            <a:off x="571680" y="135720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0" y="3772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7960-35EF-4746-BF5C-FF71F213DA7E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7968A-82CF-422B-BAD4-ECFDF2280002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-101880"/>
            <a:ext cx="6586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1)  Introduceti urmatoarele inregistrari in tabela   Ju</a:t>
            </a:r>
            <a:r>
              <a:rPr b="1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tori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0" name="Picture 1" descr=""/>
          <p:cNvPicPr/>
          <p:nvPr/>
        </p:nvPicPr>
        <p:blipFill>
          <a:blip r:embed="rId2"/>
          <a:stretch/>
        </p:blipFill>
        <p:spPr>
          <a:xfrm>
            <a:off x="1000080" y="2214720"/>
            <a:ext cx="7150320" cy="431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D889-75F3-4966-8BEC-957166CF450A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4E586-8B1B-4F83-B419-1C5FE87DC745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-11880" y="2160"/>
            <a:ext cx="91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1)Creati o interogare asupra tabele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in care sa afisati doar primel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3 campuri din tabela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2" name="Picture 1" descr=""/>
          <p:cNvPicPr/>
          <p:nvPr/>
        </p:nvPicPr>
        <p:blipFill>
          <a:blip r:embed="rId2"/>
          <a:stretch/>
        </p:blipFill>
        <p:spPr>
          <a:xfrm>
            <a:off x="928800" y="1214280"/>
            <a:ext cx="7812000" cy="450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EFBE-6BD9-456D-8029-09C02A8EDDCA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90EEB-E472-48D0-8081-6175DE682FDE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-3240" y="720"/>
            <a:ext cx="40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Salvati-o cu numele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1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2"/>
          <a:stretch/>
        </p:blipFill>
        <p:spPr>
          <a:xfrm>
            <a:off x="1000080" y="178596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6DDA-22DC-4108-99B9-0E6FC7D85C55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53734-BE81-4F08-A1CE-5B09FD4874C8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660066"/>
                </a:solidFill>
                <a:latin typeface="Tahoma"/>
              </a:rPr>
              <a:t>Baze de date</a:t>
            </a:r>
            <a:endParaRPr b="0" lang="en-US" sz="53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85800" y="2895480"/>
            <a:ext cx="9295920" cy="2226960"/>
            <a:chOff x="685800" y="2895480"/>
            <a:chExt cx="9295920" cy="2226960"/>
          </a:xfrm>
        </p:grpSpPr>
        <p:sp>
          <p:nvSpPr>
            <p:cNvPr id="138" name=""/>
            <p:cNvSpPr/>
            <p:nvPr/>
          </p:nvSpPr>
          <p:spPr>
            <a:xfrm>
              <a:off x="685800" y="2895480"/>
              <a:ext cx="9295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5800" y="2895480"/>
              <a:ext cx="92959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O baza de date (BD) reprezinta o colectie de 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date       integrata, anume structurata si dotata 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cu o descriere a structurii si a relatiilor dintre 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Date.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8E52-5B44-4EE6-9B54-5E005AF7E68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3BFA6-7931-4FD6-BAAC-BD41A6F744FA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-12960" y="-11520"/>
            <a:ext cx="9838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3) Creati o interogare asupra tabelei echipe in care sa se afiseze doar echipel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are au castigat campionatul de cel putin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0 ori. Salvati-o cu numele  I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nterogare2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2"/>
          <a:stretch/>
        </p:blipFill>
        <p:spPr>
          <a:xfrm>
            <a:off x="1000080" y="185724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4532-C9FC-4C2F-9C05-D7FA5668996D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02E5E-07DA-419A-A247-5EC9616C7360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-12960" y="2160"/>
            <a:ext cx="909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4)Creati o interogare si salvati-o cu numele </a:t>
            </a:r>
            <a:r>
              <a:rPr b="0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3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 echip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 care sa apara doar echipele din Bucuresti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8" name="Picture 1" descr=""/>
          <p:cNvPicPr/>
          <p:nvPr/>
        </p:nvPicPr>
        <p:blipFill>
          <a:blip r:embed="rId2"/>
          <a:stretch/>
        </p:blipFill>
        <p:spPr>
          <a:xfrm>
            <a:off x="1143000" y="200016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7912-EBFF-45F2-9C0E-1C032ECD38C6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6B337-C7BB-4CD4-B14D-2AACCBF91E94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-13680" y="2160"/>
            <a:ext cx="94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5) Modificat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1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astfel incat sa afiseze doar echipele al caror num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cep cu “U”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1143000" y="178596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7CF-A317-4B95-A314-DDDA4D9948A7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82AE1-5411-45FA-AD60-8458901F06D0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0" y="0"/>
            <a:ext cx="90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22)Creati un raport asupra tabelei </a:t>
            </a:r>
            <a:r>
              <a:rPr b="0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 Salvati-l cu numele de </a:t>
            </a:r>
            <a:r>
              <a:rPr b="0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_raport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, si apoi scrieti titlul raportului cu rosu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2171-7BFD-46B4-BC3B-D0B3BE113E1E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F137B-9D49-43C4-9B73-D48794681CFB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-684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23)Stabiliti o relatie intre tabelele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s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Regula: Legatura intre doua tabele nu se poate face dupa orice campuri, ci numai dupa acelea care intr-o tabela sunt cheie primara si in cealalta tabela reprezinta cheie externa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ele doua campuri prin care se stabileste relatia trebuie sa fie de acelasi tip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04" name="Picture 1" descr=""/>
          <p:cNvPicPr/>
          <p:nvPr/>
        </p:nvPicPr>
        <p:blipFill>
          <a:blip r:embed="rId2"/>
          <a:stretch/>
        </p:blipFill>
        <p:spPr>
          <a:xfrm>
            <a:off x="1000080" y="200016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09F2-BA85-437E-BE70-D33D5FB4B32F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22ABC-6EB9-4A5C-A477-D8F081A6743D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4680" y="9720"/>
            <a:ext cx="936288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6)Creati o interogare numit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4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e sa afiseze  jucatorii care nu au marcat niciun gol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7)Creati o interogare numita i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nterogare5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e sa  afiseze doar jucatorii care fac parte si din echipa nationala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8) Creati o interogare numit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6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e sa  afiseze doar jucatorii al caror nume incep cu “D” sau al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or  prenume incep cu “C”. (like “D*” or like “C*”)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9)Creati un formular pe tabel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0)Creati un formular pe tabel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21)Creati un formulare pe tabelele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</a:rPr>
              <a:t>Echipe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s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</a:rPr>
              <a:t>Jucatori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1)Creati un raport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2) Creati un raport asupra tabelei Jucatori,in care numele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lor sa fie ordonat alfabetic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3)Creati un raport pe tabelele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s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6119-89F3-4169-A326-7B0510EDF220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978C2-ED82-474D-8BC1-517A8DA2ADBE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4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491400" y="1740600"/>
            <a:ext cx="680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Tabele – contin toate inregistrarile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Interogari – localizeaza inregistrari specifice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Formulare – afiseaza inregistrarile din tabele, una cite una 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Rapoarte – tiparesc loturi de inregistrari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agini de acces la date – pun la dispozitie date prin intermediul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aginilor Web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acrocomenzi – actiuni automate uzuale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CDF6-74C2-4E8A-A8DE-0F42E96E662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11854-DF9B-4F50-8C05-3BD58F47403B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4" name="gla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be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80880" y="1447920"/>
            <a:ext cx="8432640" cy="4570920"/>
            <a:chOff x="380880" y="1447920"/>
            <a:chExt cx="8432640" cy="4570920"/>
          </a:xfrm>
        </p:grpSpPr>
        <p:sp>
          <p:nvSpPr>
            <p:cNvPr id="146" name=""/>
            <p:cNvSpPr/>
            <p:nvPr/>
          </p:nvSpPr>
          <p:spPr>
            <a:xfrm>
              <a:off x="380880" y="1447920"/>
              <a:ext cx="8432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880" y="1447920"/>
              <a:ext cx="8432640" cy="45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8920" bIns="22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nt cele mai importante obiecte ale unei baze de date.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acă o BD nu conţine cel puţin un tabel, crearea altor clase de obiecte devine lipsită de sens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entru fiecare cîmp al tabelului se specifică 3 caracteristici, şi anume: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 Field Name (denumirea  împului, obligatoriu)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 Data Type (tipul cîmpului, obligatoriu)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 Description (descrierea cîmpului, opţional).</a:t>
              </a:r>
              <a:br>
                <a:rPr sz="2000"/>
              </a:b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BCA1-7615-4CB5-B7FC-F551AC36A27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D0BAF-8B61-4661-AF29-CB860229E67B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438280"/>
            <a:ext cx="9144000" cy="298800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Se creează o interogare pentru găsirea și preluarea doar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a datelor care îndeplinesc condițiile precizate,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inclusiv datele din tabele   multipl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380880"/>
            <a:ext cx="68468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660066"/>
                </a:solidFill>
                <a:latin typeface="Lucida Sans Unicode"/>
              </a:rPr>
              <a:t>Interogari</a:t>
            </a:r>
            <a:br>
              <a:rPr sz="4100"/>
            </a:br>
            <a:endParaRPr b="0" lang="en-US" sz="55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D6A-8913-4343-8743-A0A515DE0F7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6968F-DC5F-48B2-BCE1-BBF78EC62D05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ormul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666880"/>
            <a:ext cx="9144000" cy="109764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Se creează un formular pentru vizualizarea, introducerea, și modificarea ușoară a datelor direct într-un tabel.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C30-3CDC-43AE-BCA2-E79F153D413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EA057-7942-419C-9405-49292B351D2B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  <a:ea typeface="Tahoma"/>
              </a:rPr>
              <a:t>Rapoarte</a:t>
            </a: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entru a creea rapoarte trebuie să stabiliți mai întâi care câmpuri conțin datele pe care doriți să le vedeți în raport și în ce tabele sau interogări se află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7249-A6A2-4C46-BBDB-E706D6314AE9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18B04-3EF8-43E1-B4CA-091EB535A394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6" name="gla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36360" y="285840"/>
            <a:ext cx="839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APLICATIE: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)Creez o baza de date numita FOTBAL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2)Creez tabela: ECHIPE  (in modul DESIGN VIEW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1500120" y="2357280"/>
            <a:ext cx="6494400" cy="3924360"/>
          </a:xfrm>
          <a:prstGeom prst="rect">
            <a:avLst/>
          </a:prstGeom>
          <a:ln w="9360">
            <a:solidFill>
              <a:srgbClr val="a7ccd9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739B-FF13-4315-B874-867452882B80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E1178-9838-42E3-A5B0-E3EE3157F3D7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-7920" y="5400"/>
            <a:ext cx="893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3)Stabiliti  campul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od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heie primara a tabelei. 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IMPORTANT:Cheia primara a unei tabele este un camp sau o combinati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e campuri prin care se identifica in mod unic  o anumita inregistrar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in tabela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785880" y="1571760"/>
            <a:ext cx="7149960" cy="431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C0FA-B1D0-43D9-AF98-38B29181BE3E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F89AE-DECF-481F-B47F-CAABF7EA50F4}" type="datetime3">
              <a:rPr lang="en-US"/>
              <a:t>July 29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09:33:30Z</dcterms:created>
  <dc:creator>amdl</dc:creator>
  <dc:description/>
  <dc:language>en-US</dc:language>
  <cp:lastModifiedBy>Cris</cp:lastModifiedBy>
  <dcterms:modified xsi:type="dcterms:W3CDTF">2010-05-24T11:57:30Z</dcterms:modified>
  <cp:revision>59</cp:revision>
  <dc:subject/>
  <dc:title>Rapoarte</dc:title>
</cp:coreProperties>
</file>