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glass.wav" ContentType="audio/x-wav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106D-C052-48C3-B0DC-41995A37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D761-7A8C-4F08-9EDD-220D24F9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38B0-FFB8-454C-92C1-A2467139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EC20-BE14-499D-AA2F-7EE677F8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D87B-07AA-4AEB-9C14-59A94D0B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C522-4FE3-4CC9-9EB4-2A6BD1E9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E243-55B4-4459-9671-E86B23BB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0B17-A80F-4076-854E-257F5A03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6CD8-5A18-43F2-B51F-2951FB53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F667-0DB0-468D-84FA-A39844EE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E295-72FA-406D-AC83-BCA9C7D7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6D62-A8F0-4E29-BCD8-7C03FD55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D724-F5F2-465E-8FDF-181C02E1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3BD8-4033-4D41-BCE4-6F74FE01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56FD-4CB9-4CEE-98CA-D7D442B1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85AE-A937-478F-B6C1-F04CAF03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E568-5C54-4BCA-9D5B-3413A2B8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773A-2B01-4236-8643-03184E51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35E9-FFA9-4503-9BC1-5406711E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421F-D844-4BF0-A8E4-B370A02A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7523-28DE-4B5D-8918-FF2C934D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DF4-29E0-4974-80D2-AC317566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D9B9-65FD-4B3D-94E2-134D0CBD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95FD-AE5B-4938-94B5-84169E1C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D5A7-33A2-41AC-BB31-2E8EBD10A4D2}" type="datetime3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7CF4-E13D-4D16-8AA2-27BE4C3BEE3B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3727-78C5-4022-991F-441CFBF62BC6}" type="datetime3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B48F-DB75-4D02-9B65-6D097AD35D56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audio" Target="../media/glas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iective  operaţionale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buClr>
                <a:srgbClr val="660066"/>
              </a:buClr>
              <a:buSzPct val="9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660066"/>
                </a:solidFill>
                <a:latin typeface="Tahoma"/>
              </a:rPr>
              <a:t>să  definească  noţiunile  de  baze  de  date;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buClr>
                <a:srgbClr val="660066"/>
              </a:buClr>
              <a:buSzPct val="9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660066"/>
                </a:solidFill>
                <a:latin typeface="Tahoma"/>
              </a:rPr>
              <a:t>să  descrie etapele de  obţinere a  unei  baze  de  date, a unui  tabel, a unei  interogări, a unui formular şi raport;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buClr>
                <a:srgbClr val="660066"/>
              </a:buClr>
              <a:buSzPct val="9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660066"/>
                </a:solidFill>
                <a:latin typeface="Tahoma"/>
              </a:rPr>
              <a:t>să  evidenţieze  obiectele aplicaţiei  Access  pentru  realizarea  bazelor  de  date;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buClr>
                <a:srgbClr val="660066"/>
              </a:buClr>
              <a:buSzPct val="9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660066"/>
                </a:solidFill>
                <a:latin typeface="Tahoma"/>
              </a:rPr>
              <a:t>să  utilizeze  corect  toate  obiectele  din  fereastra aplicaţiei  Access  pentru  rezolvarea  aplicaţiei;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FE12-C4CC-4A52-A261-06B4ED02DEA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DC6DC-3928-4CD1-8F3C-C29420B44217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214200" y="0"/>
            <a:ext cx="87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4)Introduceti urmatoarele inregistrari in tabela Echip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571680" y="1357200"/>
            <a:ext cx="8507160" cy="517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7F38-4286-47A1-BC49-5F0F7256C6D9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D20D3-6D9E-4579-8DD7-3782FB65F29E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-12600" y="2160"/>
            <a:ext cx="86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5) 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Utilizand instrumentul de cautare, gasiti inregistrarea din localitatea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Cluj-Napoca. Modificati localitatea in Cluj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642960" y="1285920"/>
            <a:ext cx="6912000" cy="4319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2B8C-F038-496A-9217-FECA266B46D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5E826-F85B-4E43-98A0-B34B7322E25A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0" y="112320"/>
            <a:ext cx="973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6)Adaugati urmatorul atribut  Numar_campioana (tip integer) si completati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inregistrarile cu urmatoarele numere:15, 6, 2 , 10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8" name="Picture 1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8286840" cy="48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D5BA-9DB6-431B-B58F-BA36709DCC1F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74E29-178D-402F-A80F-F4AC38B0945E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-7560" y="720"/>
            <a:ext cx="71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7) Modificati lungimea coloanei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nume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la 100 de caractere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0" name="Picture 1" descr=""/>
          <p:cNvPicPr/>
          <p:nvPr/>
        </p:nvPicPr>
        <p:blipFill>
          <a:blip r:embed="rId2"/>
          <a:stretch/>
        </p:blipFill>
        <p:spPr>
          <a:xfrm>
            <a:off x="857160" y="1928880"/>
            <a:ext cx="715032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DE8F-22A4-4E45-AF61-710406419F80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B45A0-6A15-401A-8DF7-EFACA095B2F4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-10440" y="360720"/>
            <a:ext cx="866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8)Introduceti inca o inregistrare in tabela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: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2, Steaua, Bucuresti,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Str Ghencea 19, 12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2" name="Picture 1" descr=""/>
          <p:cNvPicPr/>
          <p:nvPr/>
        </p:nvPicPr>
        <p:blipFill>
          <a:blip r:embed="rId2"/>
          <a:stretch/>
        </p:blipFill>
        <p:spPr>
          <a:xfrm>
            <a:off x="928800" y="1571760"/>
            <a:ext cx="7149960" cy="43192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0" y="3772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5158-462B-48E1-93EA-AED614D62123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8EAC8-FF6A-485C-AEA6-BB63458E9D2D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720" y="12204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9) Redenumiti coloana </a:t>
            </a:r>
            <a:r>
              <a:rPr b="1" i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adresa_club</a:t>
            </a: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 in </a:t>
            </a:r>
            <a:r>
              <a:rPr b="1" i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adresa</a:t>
            </a: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 si apoi sortati crescator dupa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campul </a:t>
            </a:r>
            <a:r>
              <a:rPr b="1" i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nume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2"/>
          <a:stretch/>
        </p:blipFill>
        <p:spPr>
          <a:xfrm>
            <a:off x="1071720" y="1428840"/>
            <a:ext cx="691164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A38B-BADF-4892-99A9-8C6B9F41FBFA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164DC-CE83-47DE-8C4A-5F902EA5D2EC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-6840" y="2160"/>
            <a:ext cx="59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0)Creeati tabela echipe (in modul design view)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2"/>
          <a:stretch/>
        </p:blipFill>
        <p:spPr>
          <a:xfrm>
            <a:off x="571680" y="1357200"/>
            <a:ext cx="7149960" cy="43196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0" y="3772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426E-3A70-456A-8976-AF940B599600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AADB3-21AD-4B7D-BB51-6B98CF64943D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-101880"/>
            <a:ext cx="6586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1)  Introduceti urmatoarele inregistrari in tabela   Ju</a:t>
            </a:r>
            <a:r>
              <a:rPr b="1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tori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0" name="Picture 1" descr=""/>
          <p:cNvPicPr/>
          <p:nvPr/>
        </p:nvPicPr>
        <p:blipFill>
          <a:blip r:embed="rId2"/>
          <a:stretch/>
        </p:blipFill>
        <p:spPr>
          <a:xfrm>
            <a:off x="1000080" y="2214720"/>
            <a:ext cx="7150320" cy="431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F5B2-2D41-4764-B832-E1F3C93EB5FA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C8C98-11C8-401A-93FD-1B9BE858E408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-11880" y="2160"/>
            <a:ext cx="91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1)Creati o interogare asupra tabelei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in care sa afisati doar primele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3 campuri din tabela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2" name="Picture 1" descr=""/>
          <p:cNvPicPr/>
          <p:nvPr/>
        </p:nvPicPr>
        <p:blipFill>
          <a:blip r:embed="rId2"/>
          <a:stretch/>
        </p:blipFill>
        <p:spPr>
          <a:xfrm>
            <a:off x="928800" y="1214280"/>
            <a:ext cx="7812000" cy="450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7DEB-CAA6-45BD-8BEF-53E03D5E0673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3F052-894B-44D8-B559-4CA340673A39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-3240" y="720"/>
            <a:ext cx="40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Salvati-o cu numele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1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4" name="Picture 1" descr=""/>
          <p:cNvPicPr/>
          <p:nvPr/>
        </p:nvPicPr>
        <p:blipFill>
          <a:blip r:embed="rId2"/>
          <a:stretch/>
        </p:blipFill>
        <p:spPr>
          <a:xfrm>
            <a:off x="1000080" y="1785960"/>
            <a:ext cx="715032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B453-181E-4DCA-9E95-4603A87283D4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9D4B5-8FB4-4C21-B479-21818A08D22F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660066"/>
                </a:solidFill>
                <a:latin typeface="Tahoma"/>
              </a:rPr>
              <a:t>Baze de date</a:t>
            </a:r>
            <a:endParaRPr b="0" lang="en-US" sz="53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85800" y="2895480"/>
            <a:ext cx="9295920" cy="2226960"/>
            <a:chOff x="685800" y="2895480"/>
            <a:chExt cx="9295920" cy="2226960"/>
          </a:xfrm>
        </p:grpSpPr>
        <p:sp>
          <p:nvSpPr>
            <p:cNvPr id="138" name=""/>
            <p:cNvSpPr/>
            <p:nvPr/>
          </p:nvSpPr>
          <p:spPr>
            <a:xfrm>
              <a:off x="685800" y="2895480"/>
              <a:ext cx="9295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5800" y="2895480"/>
              <a:ext cx="92959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353"/>
                  </a:solidFill>
                  <a:latin typeface="Tahoma"/>
                </a:rPr>
                <a:t>O baza de date (BD) reprezinta o colectie de </a:t>
              </a: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353"/>
                  </a:solidFill>
                  <a:latin typeface="Tahoma"/>
                </a:rPr>
                <a:t>date       integrata, anume structurata si dotata </a:t>
              </a: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353"/>
                  </a:solidFill>
                  <a:latin typeface="Tahoma"/>
                </a:rPr>
                <a:t>cu o descriere a structurii si a relatiilor dintre </a:t>
              </a: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353"/>
                  </a:solidFill>
                  <a:latin typeface="Tahoma"/>
                </a:rPr>
                <a:t>Date.</a:t>
              </a: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613C-EC21-468D-9C62-F0FC2CF7C31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E5A598-6A81-410D-A531-96FF39301939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-12960" y="-11520"/>
            <a:ext cx="9838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3) Creati o interogare asupra tabelei echipe in care sa se afiseze doar echipele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care au castigat campionatul de cel putin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0 ori. Salvati-o cu numele  I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nterogare2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2"/>
          <a:stretch/>
        </p:blipFill>
        <p:spPr>
          <a:xfrm>
            <a:off x="1000080" y="1857240"/>
            <a:ext cx="715032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DC0F-3AA8-495C-94CF-EA27A08E103A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0804F-4BB2-4FEE-AAE1-58CC33BC25A9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-12960" y="2160"/>
            <a:ext cx="909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4)Creati o interogare si salvati-o cu numele </a:t>
            </a:r>
            <a:r>
              <a:rPr b="0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3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asupra tabelei  echip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 care sa apara doar echipele din Bucuresti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8" name="Picture 1" descr=""/>
          <p:cNvPicPr/>
          <p:nvPr/>
        </p:nvPicPr>
        <p:blipFill>
          <a:blip r:embed="rId2"/>
          <a:stretch/>
        </p:blipFill>
        <p:spPr>
          <a:xfrm>
            <a:off x="1143000" y="2000160"/>
            <a:ext cx="714996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DB66-F474-41D6-9789-E5AFC272873D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72672-B14F-4FDF-81A1-ED69FB42CFF6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-13680" y="2160"/>
            <a:ext cx="94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5) Modificati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1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astfel incat sa afiseze doar echipele al caror nume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cep cu “U”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1143000" y="1785960"/>
            <a:ext cx="714996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CB2D-1844-4850-9FE3-38311EBDDA94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999AB-83FA-4603-834D-42A99A693C1D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0" y="0"/>
            <a:ext cx="90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22)Creati un raport asupra tabelei </a:t>
            </a:r>
            <a:r>
              <a:rPr b="0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. Salvati-l cu numele de </a:t>
            </a:r>
            <a:r>
              <a:rPr b="0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_raport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, si apoi scrieti titlul raportului cu rosu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714996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376D-8EC2-4EBB-BAE0-A9473CE70D2E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2357D-D854-43A1-9EA2-C2FB55B307D8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-684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23)Stabiliti o relatie intre tabelele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si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Regula: Legatura intre doua tabele nu se poate face dupa orice campuri, ci numai dupa acelea care intr-o tabela sunt cheie primara si in cealalta tabela reprezinta cheie externa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ele doua campuri prin care se stabileste relatia trebuie sa fie de acelasi tip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204" name="Picture 1" descr=""/>
          <p:cNvPicPr/>
          <p:nvPr/>
        </p:nvPicPr>
        <p:blipFill>
          <a:blip r:embed="rId2"/>
          <a:stretch/>
        </p:blipFill>
        <p:spPr>
          <a:xfrm>
            <a:off x="1000080" y="2000160"/>
            <a:ext cx="7150320" cy="43196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1D0-9F08-4296-8EAE-CF1165237E74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DB197-6312-482C-A48D-D2CCC56FF51A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4680" y="9720"/>
            <a:ext cx="9362880" cy="67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6)Creati o interogare numita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4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asupra tabele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re sa afiseze  jucatorii care nu au marcat niciun gol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7)Creati o interogare numita i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nterogare5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asupra tabele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,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re sa  afiseze doar jucatorii care fac parte si din echipa nationala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8) Creati o interogare numita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6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asupra tabele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,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re sa  afiseze doar jucatorii al caror nume incep cu “D” sau al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ror  prenume incep cu “C”. (like “D*” or like “C*”)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9)Creati un formular pe tabela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20)Creati un formular pe tabela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21)Creati un formulare pe tabelele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</a:rPr>
              <a:t>Echipe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s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</a:rPr>
              <a:t>Jucatori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21)Creati un raport asupra tabele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22) Creati un raport asupra tabelei Jucatori,in care numele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lor sa fie ordonat alfabetic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23)Creati un raport pe tabelele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s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77A6-F6B4-4671-892E-ADD11B02A3F6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E5015-6A66-4722-BA46-26F9F367E601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4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491400" y="1740600"/>
            <a:ext cx="680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Tabele – contin toate inregistrarile</a:t>
            </a:r>
            <a:br>
              <a:rPr sz="1800"/>
            </a:b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Interogari – localizeaza inregistrari specifice</a:t>
            </a:r>
            <a:br>
              <a:rPr sz="1800"/>
            </a:b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Formulare – afiseaza inregistrarile din tabele, una cite una </a:t>
            </a:r>
            <a:br>
              <a:rPr sz="1800"/>
            </a:b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Rapoarte – tiparesc loturi de inregistrari</a:t>
            </a:r>
            <a:br>
              <a:rPr sz="1800"/>
            </a:b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Pagini de acces la date – pun la dispozitie date prin intermediul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paginilor Web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acrocomenzi – actiuni automate uzuale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0E75-0BD3-4D83-AD06-7A591BB227F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5154E-B4B5-4B30-BF94-40F0886B8063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4" name="glas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be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80880" y="1447920"/>
            <a:ext cx="8432640" cy="4570920"/>
            <a:chOff x="380880" y="1447920"/>
            <a:chExt cx="8432640" cy="4570920"/>
          </a:xfrm>
        </p:grpSpPr>
        <p:sp>
          <p:nvSpPr>
            <p:cNvPr id="146" name=""/>
            <p:cNvSpPr/>
            <p:nvPr/>
          </p:nvSpPr>
          <p:spPr>
            <a:xfrm>
              <a:off x="380880" y="1447920"/>
              <a:ext cx="8432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880" y="1447920"/>
              <a:ext cx="8432640" cy="45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8920" bIns="22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nt cele mai importante obiecte ale unei baze de date.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acă o BD nu conţine cel puţin un tabel, crearea altor clase de obiecte devine lipsită de sens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entru fiecare cîmp al tabelului se specifică 3 caracteristici, şi anume: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 Field Name (denumirea  împului, obligatoriu)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 Data Type (tipul cîmpului, obligatoriu)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 Description (descrierea cîmpului, opţional).</a:t>
              </a:r>
              <a:br>
                <a:rPr sz="2000"/>
              </a:b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82BA-C8D6-45D3-8D37-646D34F0B75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D75B8-1305-4FAE-AE71-61450C9D2C0A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438280"/>
            <a:ext cx="9144000" cy="298800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Se creează o interogare pentru găsirea și preluarea doar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a datelor care îndeplinesc condițiile precizate,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inclusiv datele din tabele   multiple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380880"/>
            <a:ext cx="68468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660066"/>
                </a:solidFill>
                <a:latin typeface="Lucida Sans Unicode"/>
              </a:rPr>
              <a:t>Interogari</a:t>
            </a:r>
            <a:br>
              <a:rPr sz="4100"/>
            </a:br>
            <a:endParaRPr b="0" lang="en-US" sz="55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6552-A7B2-425A-A8E5-9FAE36AA500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43F58-6C20-4C84-9501-CE86124C7EB7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ormul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666880"/>
            <a:ext cx="9144000" cy="109764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Se creează un formular pentru vizualizarea, introducerea, și modificarea ușoară a datelor direct într-un tabel.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8146-14EA-4319-AE3F-C5B8EFA2FCB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B43AA-9A60-4362-8ED0-3C9E6518F0F4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  <a:ea typeface="Tahoma"/>
              </a:rPr>
              <a:t>Rapoarte</a:t>
            </a:r>
            <a:endParaRPr b="0" lang="en-US" sz="4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entru a creea rapoarte trebuie să stabiliți mai întâi care câmpuri conțin datele pe care doriți să le vedeți în raport și în ce tabele sau interogări se află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474C-44EF-44E4-9248-B13CF8B4EC26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7C9BC-8138-485B-BDC5-DC9769AAD857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6" name="glas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36360" y="285840"/>
            <a:ext cx="839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APLICATIE: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)Creez o baza de date numita FOTBAL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2)Creez tabela: ECHIPE  (in modul DESIGN VIEW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1500120" y="2357280"/>
            <a:ext cx="6494400" cy="3924360"/>
          </a:xfrm>
          <a:prstGeom prst="rect">
            <a:avLst/>
          </a:prstGeom>
          <a:ln w="9360">
            <a:solidFill>
              <a:srgbClr val="a7ccd9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4927-1F1C-452A-8EB7-475BFD3C8A4C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AB59B-0560-432B-964E-AC34D2A29BC4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"/>
          <p:cNvSpPr/>
          <p:nvPr/>
        </p:nvSpPr>
        <p:spPr>
          <a:xfrm>
            <a:off x="-7920" y="5400"/>
            <a:ext cx="893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3)Stabiliti  campul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cod 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cheie primara a tabelei. 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IMPORTANT:Cheia primara a unei tabele este un camp sau o combinati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e campuri prin care se identifica in mod unic  o anumita inregistrare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in tabela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785880" y="1571760"/>
            <a:ext cx="7149960" cy="431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08C4-F02F-42D7-92B8-1A6725B76B8F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AA578-DF4B-44EF-9BC5-30DE834A0692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09:33:30Z</dcterms:created>
  <dc:creator>amdl</dc:creator>
  <dc:description/>
  <dc:language>en-US</dc:language>
  <cp:lastModifiedBy>Cris</cp:lastModifiedBy>
  <dcterms:modified xsi:type="dcterms:W3CDTF">2010-05-24T11:57:30Z</dcterms:modified>
  <cp:revision>59</cp:revision>
  <dc:subject/>
  <dc:title>Rapoarte</dc:title>
</cp:coreProperties>
</file>