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glass.wav" ContentType="audio/x-wav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B247-3ADB-4C75-BFCD-700E62A1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D90B-645D-475C-A52B-BFB5C6FA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D3F9-6E90-41E2-A14B-EE28F0E06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DEC1-ECA6-429B-8D43-B66B01E3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02C6-884F-4839-87F1-433860FE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7BB0-A51F-49E1-91F4-9ABB1514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55DA-C34B-4122-BF55-47784006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04BD-3CDB-447D-A0C6-E62D531E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41D8-4D20-4BF7-85FF-05512CC2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EB4B-034D-41A5-9E26-DE25BEDD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8E91-A44F-424B-B53C-3CB01359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96EE-D003-4890-8950-A8F681C5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931E-0FBB-4A7E-923D-EAB7105B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B79F-19AD-461B-8FAB-DBFF4225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D203-BA8A-4801-8DD5-45193E81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E6A0-F2C3-4AEB-B4BE-C559EE9F9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63B0-704A-433E-8822-2327263F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A6D5-6A19-4E5E-BC39-BBF0E712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9968-F4E4-475B-BBCB-7BD71100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61E6-12B7-497D-931C-4E198915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9A4C-EE22-492B-86FE-1942FB22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3014-9810-4AD5-82D0-235C827A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4EA3-203D-46F7-BFFB-99CBFF29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8A29-CE5B-45AE-9381-1554A7DE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E7EE-3591-48E2-A17F-031A45AD86C7}" type="datetime3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8608-3C95-4EEF-9BD1-CE4D18FF208F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B709-13D8-420B-A639-028F3989AA1F}" type="datetime3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FE6C-2A90-4502-B30F-5607CF04B8F2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audio" Target="../media/glas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iective  operaţionale: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buClr>
                <a:srgbClr val="660066"/>
              </a:buClr>
              <a:buSzPct val="9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660066"/>
                </a:solidFill>
                <a:latin typeface="Tahoma"/>
              </a:rPr>
              <a:t>să  definească  noţiunile  de  baze  de  date;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buClr>
                <a:srgbClr val="660066"/>
              </a:buClr>
              <a:buSzPct val="9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660066"/>
                </a:solidFill>
                <a:latin typeface="Tahoma"/>
              </a:rPr>
              <a:t>să  descrie etapele de  obţinere a  unei  baze  de  date, a unui  tabel, a unei  interogări, a unui formular şi raport;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buClr>
                <a:srgbClr val="660066"/>
              </a:buClr>
              <a:buSzPct val="9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660066"/>
                </a:solidFill>
                <a:latin typeface="Tahoma"/>
              </a:rPr>
              <a:t>să  evidenţieze  obiectele aplicaţiei  Access  pentru  realizarea  bazelor  de  date;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buClr>
                <a:srgbClr val="660066"/>
              </a:buClr>
              <a:buSzPct val="9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660066"/>
                </a:solidFill>
                <a:latin typeface="Tahoma"/>
              </a:rPr>
              <a:t>să  utilizeze  corect  toate  obiectele  din  fereastra aplicaţiei  Access  pentru  rezolvarea  aplicaţiei;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7F00-D0BC-4460-BCBE-D5EBCE91873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E880C7-1C6D-4C53-8380-4AEB637B8959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2" name="glas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"/>
          <p:cNvSpPr/>
          <p:nvPr/>
        </p:nvSpPr>
        <p:spPr>
          <a:xfrm>
            <a:off x="214200" y="0"/>
            <a:ext cx="87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4)Introduceti urmatoarele inregistrari in tabela Echip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2"/>
          <a:stretch/>
        </p:blipFill>
        <p:spPr>
          <a:xfrm>
            <a:off x="571680" y="1357200"/>
            <a:ext cx="8507160" cy="5176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6495-08A9-4DA3-A05C-CE67A8474356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69A6F-CAC8-4674-B8A6-AF61B094A495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-12600" y="2160"/>
            <a:ext cx="86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5) 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Utilizand instrumentul de cautare, gasiti inregistrarea din localitatea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Cluj-Napoca. Modificati localitatea in Cluj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642960" y="1285920"/>
            <a:ext cx="6912000" cy="43196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C2BC-65AA-4FCA-990C-8B629043585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A99E60-127B-4197-B9AD-0A9ADC19EB0F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0" y="112320"/>
            <a:ext cx="973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6)Adaugati urmatorul atribut  Numar_campioana (tip integer) si completati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inregistrarile cu urmatoarele numere:15, 6, 2 , 10.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78" name="Picture 1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8286840" cy="489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7E84-33A2-4061-93B5-1170108A14CC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1A69F1-6578-450D-8C5C-17D04BFE9739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-7560" y="720"/>
            <a:ext cx="71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7) Modificati lungimea coloanei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nume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la 100 de caractere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80" name="Picture 1" descr=""/>
          <p:cNvPicPr/>
          <p:nvPr/>
        </p:nvPicPr>
        <p:blipFill>
          <a:blip r:embed="rId2"/>
          <a:stretch/>
        </p:blipFill>
        <p:spPr>
          <a:xfrm>
            <a:off x="857160" y="1928880"/>
            <a:ext cx="715032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7852-4D70-470A-92BA-4CA9A259511B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5BCE99-0AC5-4647-8700-2854B8076CFB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-10440" y="360720"/>
            <a:ext cx="866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8)Introduceti inca o inregistrare in tabela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: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2, Steaua, Bucuresti,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Str Ghencea 19, 12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82" name="Picture 1" descr=""/>
          <p:cNvPicPr/>
          <p:nvPr/>
        </p:nvPicPr>
        <p:blipFill>
          <a:blip r:embed="rId2"/>
          <a:stretch/>
        </p:blipFill>
        <p:spPr>
          <a:xfrm>
            <a:off x="928800" y="1571760"/>
            <a:ext cx="7149960" cy="43192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3"/>
          <p:cNvSpPr/>
          <p:nvPr/>
        </p:nvSpPr>
        <p:spPr>
          <a:xfrm>
            <a:off x="0" y="3772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263A-CB38-4231-8735-484AC7D3C821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72E552-6134-455B-B101-D3C083ACCCAD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720" y="122040"/>
            <a:ext cx="839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9) Redenumiti coloana </a:t>
            </a:r>
            <a:r>
              <a:rPr b="1" i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adresa_club</a:t>
            </a: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 in </a:t>
            </a:r>
            <a:r>
              <a:rPr b="1" i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adresa</a:t>
            </a: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 si apoi sortati crescator dupa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campul </a:t>
            </a:r>
            <a:r>
              <a:rPr b="1" i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nume.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2"/>
          <a:stretch/>
        </p:blipFill>
        <p:spPr>
          <a:xfrm>
            <a:off x="1071720" y="1428840"/>
            <a:ext cx="691164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C428-D46C-4D68-8A4C-3FA0D87102A4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5CACB0-F961-4017-BB87-393274EF9636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-6840" y="2160"/>
            <a:ext cx="59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0)Creeati tabela echipe (in modul design view)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87" name="Picture 1" descr=""/>
          <p:cNvPicPr/>
          <p:nvPr/>
        </p:nvPicPr>
        <p:blipFill>
          <a:blip r:embed="rId2"/>
          <a:stretch/>
        </p:blipFill>
        <p:spPr>
          <a:xfrm>
            <a:off x="571680" y="1357200"/>
            <a:ext cx="7149960" cy="43196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0" y="3772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5854-D298-432A-B29B-B657AC7C08AE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703A46-503D-40FB-9759-6E66BD3C476F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-101880"/>
            <a:ext cx="65865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11)  Introduceti urmatoarele inregistrari in tabela   Ju</a:t>
            </a:r>
            <a:r>
              <a:rPr b="1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catori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90" name="Picture 1" descr=""/>
          <p:cNvPicPr/>
          <p:nvPr/>
        </p:nvPicPr>
        <p:blipFill>
          <a:blip r:embed="rId2"/>
          <a:stretch/>
        </p:blipFill>
        <p:spPr>
          <a:xfrm>
            <a:off x="1000080" y="2214720"/>
            <a:ext cx="7150320" cy="431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F645-D7D4-4F5E-A981-349ECECF930C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01EEA-6CA2-4D6F-96BD-0CBE74A5694A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-11880" y="2160"/>
            <a:ext cx="918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1)Creati o interogare asupra tabelei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in care sa afisati doar primele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3 campuri din tabela</a:t>
            </a: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92" name="Picture 1" descr=""/>
          <p:cNvPicPr/>
          <p:nvPr/>
        </p:nvPicPr>
        <p:blipFill>
          <a:blip r:embed="rId2"/>
          <a:stretch/>
        </p:blipFill>
        <p:spPr>
          <a:xfrm>
            <a:off x="928800" y="1214280"/>
            <a:ext cx="7812000" cy="450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3054-AD48-4A1C-A415-59A6E58EC4FF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66BD89-C993-4A0E-8F61-0D53A8DFBACC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-3240" y="720"/>
            <a:ext cx="40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Salvati-o cu numele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Interogare1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94" name="Picture 1" descr=""/>
          <p:cNvPicPr/>
          <p:nvPr/>
        </p:nvPicPr>
        <p:blipFill>
          <a:blip r:embed="rId2"/>
          <a:stretch/>
        </p:blipFill>
        <p:spPr>
          <a:xfrm>
            <a:off x="1000080" y="1785960"/>
            <a:ext cx="715032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5019-46B3-4F9B-8CB9-AC0480D5BDCC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72A37C-D504-4121-AE3C-183A8E08ED7A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660066"/>
                </a:solidFill>
                <a:latin typeface="Tahoma"/>
              </a:rPr>
              <a:t>Baze de date</a:t>
            </a:r>
            <a:endParaRPr b="0" lang="en-US" sz="53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85800" y="2895480"/>
            <a:ext cx="9295920" cy="2226960"/>
            <a:chOff x="685800" y="2895480"/>
            <a:chExt cx="9295920" cy="2226960"/>
          </a:xfrm>
        </p:grpSpPr>
        <p:sp>
          <p:nvSpPr>
            <p:cNvPr id="138" name=""/>
            <p:cNvSpPr/>
            <p:nvPr/>
          </p:nvSpPr>
          <p:spPr>
            <a:xfrm>
              <a:off x="685800" y="2895480"/>
              <a:ext cx="9295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5800" y="2895480"/>
              <a:ext cx="92959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45353"/>
                  </a:solidFill>
                  <a:latin typeface="Tahoma"/>
                </a:rPr>
                <a:t>O baza de date (BD) reprezinta o colectie de </a:t>
              </a:r>
              <a:endParaRPr b="0" lang="en-US" sz="28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45353"/>
                  </a:solidFill>
                  <a:latin typeface="Tahoma"/>
                </a:rPr>
                <a:t>date       integrata, anume structurata si dotata </a:t>
              </a:r>
              <a:endParaRPr b="0" lang="en-US" sz="28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45353"/>
                  </a:solidFill>
                  <a:latin typeface="Tahoma"/>
                </a:rPr>
                <a:t>cu o descriere a structurii si a relatiilor dintre </a:t>
              </a:r>
              <a:endParaRPr b="0" lang="en-US" sz="28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45353"/>
                  </a:solidFill>
                  <a:latin typeface="Tahoma"/>
                </a:rPr>
                <a:t>Date.</a:t>
              </a:r>
              <a:endParaRPr b="0" lang="en-US" sz="28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3E40-D465-4D34-9F5B-E34A25977C2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F7FF2-E24F-4764-85BD-0CF8C4F07220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-12960" y="-11520"/>
            <a:ext cx="9838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3) Creati o interogare asupra tabelei echipe in care sa se afiseze doar echipele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care au castigat campionatul de cel putin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0 ori. Salvati-o cu numele  I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nterogare2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96" name="Picture 1" descr=""/>
          <p:cNvPicPr/>
          <p:nvPr/>
        </p:nvPicPr>
        <p:blipFill>
          <a:blip r:embed="rId2"/>
          <a:stretch/>
        </p:blipFill>
        <p:spPr>
          <a:xfrm>
            <a:off x="1000080" y="1857240"/>
            <a:ext cx="715032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8FB0-EF3B-4463-8A20-2C4099746154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5D3C3-93B5-4759-8FDF-035EFD0118F2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-12960" y="2160"/>
            <a:ext cx="909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4)Creati o interogare si salvati-o cu numele </a:t>
            </a:r>
            <a:r>
              <a:rPr b="0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interogare3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asupra tabelei  echipe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in care sa apara doar echipele din Bucuresti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98" name="Picture 1" descr=""/>
          <p:cNvPicPr/>
          <p:nvPr/>
        </p:nvPicPr>
        <p:blipFill>
          <a:blip r:embed="rId2"/>
          <a:stretch/>
        </p:blipFill>
        <p:spPr>
          <a:xfrm>
            <a:off x="1143000" y="2000160"/>
            <a:ext cx="714996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BEBC-EAFD-4E74-B1F8-8964F42F4FB0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74627B-39EC-4A5F-AD9A-26AD606084A7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-13680" y="2160"/>
            <a:ext cx="94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5) Modificati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interogare1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astfel incat sa afiseze doar echipele al caror nume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incep cu “U”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1143000" y="1785960"/>
            <a:ext cx="714996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593E-2F9C-44AD-A5A7-2F3E7EFDBC76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CEBC8-F80D-42B4-A835-355560DF39FA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0" y="0"/>
            <a:ext cx="90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22)Creati un raport asupra tabelei </a:t>
            </a:r>
            <a:r>
              <a:rPr b="0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. Salvati-l cu numele de </a:t>
            </a:r>
            <a:r>
              <a:rPr b="0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_raport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, si apoi scrieti titlul raportului cu rosu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714996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C9A4-71DA-4080-AD62-EA03580D8ECA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5F825F-3AF5-41E5-BC78-FF5079684A96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-684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23)Stabiliti o relatie intre tabelele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si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Regula: Legatura intre doua tabele nu se poate face dupa orice campuri, ci numai dupa acelea care intr-o tabela sunt cheie primara si in cealalta tabela reprezinta cheie externa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ele doua campuri prin care se stabileste relatia trebuie sa fie de acelasi tip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204" name="Picture 1" descr=""/>
          <p:cNvPicPr/>
          <p:nvPr/>
        </p:nvPicPr>
        <p:blipFill>
          <a:blip r:embed="rId2"/>
          <a:stretch/>
        </p:blipFill>
        <p:spPr>
          <a:xfrm>
            <a:off x="1000080" y="2000160"/>
            <a:ext cx="7150320" cy="43196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6DCA-EF1F-40F4-9666-20FB48EE6F3F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B420F-EFB9-4A68-BC77-8AB881401746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4680" y="9720"/>
            <a:ext cx="9362880" cy="67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16)Creati o interogare numita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interogare4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asupra tabele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care sa afiseze  jucatorii care nu au marcat niciun gol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17)Creati o interogare numita i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nterogare5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asupra tabele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,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care sa  afiseze doar jucatorii care fac parte si din echipa nationala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18) Creati o interogare numita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interogare6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asupra tabele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,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care sa  afiseze doar jucatorii al caror nume incep cu “D” sau al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Caror  prenume incep cu “C”. (like “D*” or like “C*”)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19)Creati un formular pe tabela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20)Creati un formular pe tabela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21)Creati un formulare pe tabelele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</a:rPr>
              <a:t>Echipe 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s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</a:rPr>
              <a:t>Jucatori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21)Creati un raport asupra tabele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22) Creati un raport asupra tabelei Jucatori,in care numele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lor sa fie ordonat alfabetic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23)Creati un raport pe tabelele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s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5896-C5C8-44E9-9A06-13E187B66573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9DAC15-8C08-4E23-98B7-D4B451C65162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2" name="glas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Rectangle 4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491400" y="1740600"/>
            <a:ext cx="680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Tabele – contin toate inregistrarile</a:t>
            </a:r>
            <a:br>
              <a:rPr sz="1800"/>
            </a:b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Interogari – localizeaza inregistrari specifice</a:t>
            </a:r>
            <a:br>
              <a:rPr sz="1800"/>
            </a:b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Formulare – afiseaza inregistrarile din tabele, una cite una </a:t>
            </a:r>
            <a:br>
              <a:rPr sz="1800"/>
            </a:b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Rapoarte – tiparesc loturi de inregistrari</a:t>
            </a:r>
            <a:br>
              <a:rPr sz="1800"/>
            </a:b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Pagini de acces la date – pun la dispozitie date prin intermediul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paginilor Web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Macrocomenzi – actiuni automate uzuale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0ED7-913F-4670-94A8-2906BBA52A2F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234E37-AA7C-49A4-832D-7F3D21EAF727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4" name="glas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abe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80880" y="1447920"/>
            <a:ext cx="8432640" cy="4570920"/>
            <a:chOff x="380880" y="1447920"/>
            <a:chExt cx="8432640" cy="4570920"/>
          </a:xfrm>
        </p:grpSpPr>
        <p:sp>
          <p:nvSpPr>
            <p:cNvPr id="146" name=""/>
            <p:cNvSpPr/>
            <p:nvPr/>
          </p:nvSpPr>
          <p:spPr>
            <a:xfrm>
              <a:off x="380880" y="1447920"/>
              <a:ext cx="8432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880" y="1447920"/>
              <a:ext cx="8432640" cy="45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88920" bIns="22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nt cele mai importante obiecte ale unei baze de date.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Dacă o BD nu conţine cel puţin un tabel, crearea altor clase de obiecte devine lipsită de sens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entru fiecare cîmp al tabelului se specifică 3 caracteristici, şi anume:</a:t>
              </a: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 Field Name (denumirea  împului, obligatoriu)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 Data Type (tipul cîmpului, obligatoriu)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 Description (descrierea cîmpului, opţional).</a:t>
              </a:r>
              <a:br>
                <a:rPr sz="2000"/>
              </a:b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46B8-4F41-4B07-8CB9-ED2C728960D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14532-B610-4CB5-BF01-2606D2BB6261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2" name="glas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438280"/>
            <a:ext cx="9144000" cy="298800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Se creează o interogare pentru găsirea și preluarea doar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a datelor care îndeplinesc condițiile precizate,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inclusiv datele din tabele   multiple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380880"/>
            <a:ext cx="68468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660066"/>
                </a:solidFill>
                <a:latin typeface="Lucida Sans Unicode"/>
              </a:rPr>
              <a:t>Interogari</a:t>
            </a:r>
            <a:br>
              <a:rPr sz="4100"/>
            </a:br>
            <a:endParaRPr b="0" lang="en-US" sz="55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B70A-FD2A-4E7A-8E07-5EBCDA3ACCB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2BD4F7-3BDD-44F1-B902-D10FF7BF2E58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2" name="glas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ormul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666880"/>
            <a:ext cx="9144000" cy="109764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Se creează un formular pentru vizualizarea, introducerea, și modificarea ușoară a datelor direct într-un tabel.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DBDB-3A97-4C50-9457-0126939575A2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58675-CFCF-461E-9617-3F4CCFBB6708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2" name="glas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  <a:ea typeface="Tahoma"/>
              </a:rPr>
              <a:t>Rapoarte</a:t>
            </a:r>
            <a:endParaRPr b="0" lang="en-US" sz="4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entru a creea rapoarte trebuie să stabiliți mai întâi care câmpuri conțin datele pe care doriți să le vedeți în raport și în ce tabele sau interogări se află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567F-592B-4D0C-9067-151790107F8B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127516-D12D-44B4-B65D-29B8D1B09E9F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6" name="glas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"/>
          <p:cNvSpPr/>
          <p:nvPr/>
        </p:nvSpPr>
        <p:spPr>
          <a:xfrm>
            <a:off x="36360" y="285840"/>
            <a:ext cx="839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APLICATIE: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)Creez o baza de date numita FOTBAL.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2)Creez tabela: ECHIPE  (in modul DESIGN VIEW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1500120" y="2357280"/>
            <a:ext cx="6494400" cy="3924360"/>
          </a:xfrm>
          <a:prstGeom prst="rect">
            <a:avLst/>
          </a:prstGeom>
          <a:ln w="9360">
            <a:solidFill>
              <a:srgbClr val="a7ccd9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C764-0E74-4E5F-982F-159D7C022C30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471C64-438C-4CB1-9A5C-55BC07677227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"/>
          <p:cNvSpPr/>
          <p:nvPr/>
        </p:nvSpPr>
        <p:spPr>
          <a:xfrm>
            <a:off x="-7920" y="5400"/>
            <a:ext cx="893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3)Stabiliti  campul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cod 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cheie primara a tabelei. 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IMPORTANT:Cheia primara a unei tabele este un camp sau o combinatie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de campuri prin care se identifica in mod unic  o anumita inregistrare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din tabela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2"/>
          <a:stretch/>
        </p:blipFill>
        <p:spPr>
          <a:xfrm>
            <a:off x="785880" y="1571760"/>
            <a:ext cx="7149960" cy="431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BE44-26E6-4B35-9414-1C6353FCB6C8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7B6B6B-AF7B-405A-B374-6FEC6612C021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09:33:30Z</dcterms:created>
  <dc:creator>amdl</dc:creator>
  <dc:description/>
  <dc:language>en-US</dc:language>
  <cp:lastModifiedBy>Cris</cp:lastModifiedBy>
  <dcterms:modified xsi:type="dcterms:W3CDTF">2010-05-24T11:57:30Z</dcterms:modified>
  <cp:revision>59</cp:revision>
  <dc:subject/>
  <dc:title>Rapoarte</dc:title>
</cp:coreProperties>
</file>